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Prox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73ECEF7C-BC0A-44F0-9717-D96F40F33FE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014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612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C438752D-BC64-469E-B9F9-9775432034F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ynamic Prox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0" y="6529320"/>
            <a:ext cx="5410080" cy="2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09480" y="2503440"/>
            <a:ext cx="7925040" cy="2034360"/>
            <a:chOff x="609480" y="2503440"/>
            <a:chExt cx="7925040" cy="2034360"/>
          </a:xfrm>
        </p:grpSpPr>
        <p:pic>
          <p:nvPicPr>
            <p:cNvPr id="85" name="" descr=""/>
            <p:cNvPicPr/>
            <p:nvPr/>
          </p:nvPicPr>
          <p:blipFill>
            <a:blip r:embed="rId1"/>
            <a:srcRect l="644" t="14957" r="5150" b="0"/>
            <a:stretch/>
          </p:blipFill>
          <p:spPr>
            <a:xfrm>
              <a:off x="609480" y="2503440"/>
              <a:ext cx="792504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200400" y="4114800"/>
              <a:ext cx="27432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plained Simp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8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67200" y="66600"/>
            <a:ext cx="2968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a prox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ctionary definition: “a person authorized to act for anoth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if you ask a friend to vote on your behalf then you 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voting by prox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mputer terms, a proxy is a delegation object (or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remote procedure call (RPC) mechanis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invokes on a (local) proxy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xy object sends request across the network to a server and waits for a re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ompanies set up a HTTP proxy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wall prevents outgoing connections to port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web browsers cannot connect to remote web sites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browsers are configured to connect via the company’s proxy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xy server can be configured to disallow access to eBay, Amazon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53840" y="66240"/>
            <a:ext cx="397836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c proxies in Ja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1.3 introduced dynamic prox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PI is defined in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lang.ref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Proxy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ublic static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ProxyInstan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ClassLoader loader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Class[] interface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InvocationHandler h) throws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br>
              <a:rPr sz="1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face InvocationHandler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Object proxy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Method m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Object[] args) throws Throwabl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1000" y="66240"/>
            <a:ext cx="661032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s required to create a dynamic prox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 class that implemen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vocationHandl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implementation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vok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ul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thod.invok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delegate to the target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some “added value”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xy.newInstanc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ith the following paramet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lnSpc>
                <a:spcPct val="100000"/>
              </a:lnSpc>
              <a:spcBef>
                <a:spcPts val="499"/>
              </a:spcBef>
              <a:buClr>
                <a:srgbClr val="0b287b"/>
              </a:buClr>
              <a:buFont typeface="Courier New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rgetObj.getClass().getClassLoader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lnSpc>
                <a:spcPct val="100000"/>
              </a:lnSpc>
              <a:spcBef>
                <a:spcPts val="499"/>
              </a:spcBef>
              <a:buClr>
                <a:srgbClr val="0b287b"/>
              </a:buClr>
              <a:buFont typeface="Courier New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rgetObj.getClass.getInterfaces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lnSpc>
                <a:spcPct val="100000"/>
              </a:lnSpc>
              <a:spcBef>
                <a:spcPts val="499"/>
              </a:spcBef>
              <a:buClr>
                <a:srgbClr val="0b287b"/>
              </a:buClr>
              <a:buFont typeface="Courier New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vocationHandl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bject “wrapper” around the target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cast the result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xy.newInstanc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an interface implemented by the target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28880" y="66240"/>
            <a:ext cx="342432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es this work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xy.newProxyInstanc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runtime code generation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a “hidden” class with a name of the for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$Proxy&lt;int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se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“$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events namespace pol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d cla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s the specified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method puts parameters in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[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call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vocationHandler.invok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use a dynamic prox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ly i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lass implements 1+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interfaces is a good programming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his requirement is not a problem in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60320" y="66240"/>
            <a:ext cx="215604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co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Handler implements InvocationHandler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rivate Object target;</a:t>
            </a:r>
            <a:br>
              <a:rPr sz="2000"/>
            </a:br>
            <a:br>
              <a:rPr sz="1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rivate Handler(Object target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this.target = targe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}</a:t>
            </a:r>
            <a:br>
              <a:rPr sz="2000"/>
            </a:br>
            <a:br>
              <a:rPr sz="1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ublic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Object proxy, Method m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Object[] args) throws Throwab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Object result = null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try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... // added-value co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resul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.invok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target, args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} catch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cationTargetException 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... // added-value co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ow ex.getCause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return resul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... // continued on the next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0240" y="1346040"/>
            <a:ext cx="2481480" cy="58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2a7e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x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ameter is usually igno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714640" y="1641600"/>
            <a:ext cx="795240" cy="79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914200" y="66240"/>
            <a:ext cx="325908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code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 // continued from the previous slide</a:t>
            </a:r>
            <a:br>
              <a:rPr sz="1800"/>
            </a:br>
            <a:br>
              <a:rPr sz="1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public static Objec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reateProx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Object targe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xy.newProxyInstan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target.getClass().getClassLoader(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target.getClass().getInterfaces(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new Handler(target)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5600" y="66240"/>
            <a:ext cx="555948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uses for dynamic prox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-value code m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force securit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and commit or rollback a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reflection &amp; recursion to print details of all paramet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or debugg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testing system, a proxy might “pretend” to be target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s “test” values instead of delegating to a real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Mock (www.easymock.org) makes it easy to write tests in this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jmchale</cp:lastModifiedBy>
  <cp:lastPrinted>2002-08-30T21:11:41Z</cp:lastPrinted>
  <dcterms:modified xsi:type="dcterms:W3CDTF">2008-04-21T04:38:22Z</dcterms:modified>
  <cp:revision>1497</cp:revision>
  <dc:subject/>
  <dc:title>Dynamic Proxies</dc:title>
</cp:coreProperties>
</file>