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E1CFEB3-166C-46CE-84E8-4B088607DD63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1039680" y="842760"/>
            <a:ext cx="46864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76440" y="4695480"/>
            <a:ext cx="54111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AC5FFF-E3EB-47BE-BD99-0BA276EE291A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1800" y="4694400"/>
            <a:ext cx="4960800" cy="44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10FEF6-42B0-48E7-AD0D-75478C5503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F77A53B-178A-47B3-A772-855030C8D5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de generation and bytecode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52880" y="61920"/>
            <a:ext cx="2751120" cy="776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ilers have the followin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’s reflection metadata is conceptually similar to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ild a Java code generation tool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Java parser. Instead run the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generated .class files as your pars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to navigate over this “parse t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9560" y="1434960"/>
            <a:ext cx="8129520" cy="1978200"/>
            <a:chOff x="709560" y="1434960"/>
            <a:chExt cx="8129520" cy="1978200"/>
          </a:xfrm>
        </p:grpSpPr>
        <p:sp>
          <p:nvSpPr>
            <p:cNvPr id="117" name=""/>
            <p:cNvSpPr/>
            <p:nvPr/>
          </p:nvSpPr>
          <p:spPr>
            <a:xfrm>
              <a:off x="6804000" y="1434960"/>
              <a:ext cx="203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ed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797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14760" y="2046240"/>
              <a:ext cx="1295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92680" y="2433600"/>
              <a:ext cx="750240" cy="672840"/>
              <a:chOff x="3892680" y="2433600"/>
              <a:chExt cx="750240" cy="672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110480" y="243360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926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742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460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10480" y="296064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7720" y="2960640"/>
                <a:ext cx="9540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939840" y="2585880"/>
                <a:ext cx="2178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58000" y="258588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58000" y="2585880"/>
                <a:ext cx="4374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1580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218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699000" y="1976400"/>
              <a:ext cx="11379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9240" y="2274840"/>
              <a:ext cx="14464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6560" y="1976400"/>
              <a:ext cx="12063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7400" y="2274840"/>
              <a:ext cx="1068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5320" y="1976400"/>
              <a:ext cx="105264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579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8360" y="257976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1240" y="1824120"/>
              <a:ext cx="4864320" cy="15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4480" y="1434960"/>
              <a:ext cx="4819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781680" y="1833480"/>
              <a:ext cx="1652400" cy="1515600"/>
              <a:chOff x="6781680" y="1833480"/>
              <a:chExt cx="1652400" cy="1515600"/>
            </a:xfrm>
          </p:grpSpPr>
          <p:sp>
            <p:nvSpPr>
              <p:cNvPr id="142" name=""/>
              <p:cNvSpPr/>
              <p:nvPr/>
            </p:nvSpPr>
            <p:spPr>
              <a:xfrm>
                <a:off x="6781680" y="2759040"/>
                <a:ext cx="763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781680" y="2302200"/>
                <a:ext cx="609840" cy="38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81680" y="2835720"/>
                <a:ext cx="87264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1920" y="183348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83400" y="215280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5600" y="2471400"/>
                <a:ext cx="708480" cy="87768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09560" y="2130480"/>
              <a:ext cx="708120" cy="877320"/>
              <a:chOff x="709560" y="2130480"/>
              <a:chExt cx="708120" cy="877320"/>
            </a:xfrm>
          </p:grpSpPr>
          <p:sp>
            <p:nvSpPr>
              <p:cNvPr id="149" name=""/>
              <p:cNvSpPr/>
              <p:nvPr/>
            </p:nvSpPr>
            <p:spPr>
              <a:xfrm>
                <a:off x="709560" y="2130480"/>
                <a:ext cx="70812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9560" y="2392920"/>
                <a:ext cx="70812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put 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14320" y="66240"/>
            <a:ext cx="384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de generation in a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un Java compiler to compile generat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t to automate the code generation and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s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nvoke a Java compil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ins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(non-standard) API to Sun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ols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shipped with the Sun J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use Janino (an open-source, embeddable, Java compi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at www.janino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load th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0600" y="66600"/>
            <a:ext cx="57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runtime code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 is us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SP (Java Server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erate servlets from .jsp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DEs and debu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valuate Java expressions entered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84360" y="66240"/>
            <a:ext cx="5967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Java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ompiler for a scripting language and generate Java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out-of-the-box integration between Java and th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 (groovy.codehaus.org)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optimize bytecode and rewrite the .clas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analyze bytecode and generat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bfus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le names of methods and fields in .class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programming (AO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bytecode to insert “interception”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 for classes o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1120" y="66240"/>
            <a:ext cx="5227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 for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pen-source projects for bytecode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 (http://asm.objectweb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EL (http://jakarta.apache.org/bcel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P (serp.sourceforge.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LIB (Code Generation LIBr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top of B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higher-level API for generating dynamic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other tools, such as Spring and Hiber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ools use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s to extend functionality of an application (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completion in Java editors and 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ming conventions of methods to infer semantics (JUnit test 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components together (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-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ervlets from a markup language (J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Java expressions entered interactively by a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sic uses of Java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76720" y="66600"/>
            <a:ext cx="71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reads build (compilation) instructions from an X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is hard-coded to know how to process top-leve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nt task (used 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) is a 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Ant build file on the next slide for examples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ask plug-ins are bundled with the Ant distrib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ies file provides a mapping f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k-nam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lass-that-implements-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Ant about user-written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920" y="66240"/>
            <a:ext cx="3570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Ant build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example build file” ...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src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build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lib.dir” value=“...”/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do-everything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cdir=“...” dest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rfile=“...” base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tar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kde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foo” classname=“com.example.tools.Foo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pro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00160" y="66240"/>
            <a:ext cx="5099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-completion in a text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Java editors and IDEs provide auto-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you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someObj.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pop-up menu lists fields and methods for the object’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-up menu is populated by using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28760" y="66600"/>
            <a:ext cx="1011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it 3 uses reflection to find methods whose names start with “te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was changed in J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 are identified by an anno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notations were introduced in Java 1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used to find methods with the appropriat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5800" y="66600"/>
            <a:ext cx="1246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is an extract from a Spring configuration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employee1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ref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3124080"/>
            <a:ext cx="2209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920" y="66240"/>
            <a:ext cx="2263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uses reflection to create an object 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’s type is specified by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the object is created with its defaul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-a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s (nested ins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use a non-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 object is constructed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invo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valu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pitalized name of 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determine the type of the parameter pass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can support primitive types and comm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refers to anoth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by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0Z</dcterms:modified>
  <cp:revision>1496</cp:revision>
  <dc:subject/>
  <dc:title>Example Uses of Java Reflection</dc:title>
</cp:coreProperties>
</file>