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730115F-A63F-4ABA-9CDD-2DF9FB0DD5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8C34302-B48A-4F66-9D0A-7A332D0984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7292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communications is becoming more common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web browsers and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stributed middleware (remote procedure call, CORBA, web service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just want to learn “System X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ystem X provides support for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need to learn enough about secure communications to be able to configure and administer Syste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imed at such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concepts (but not the details) of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latively short (just a few hours of mat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2:46Z</dcterms:modified>
  <cp:revision>1498</cp:revision>
  <dc:subject/>
  <dc:title>Introduction to Spring</dc:title>
</cp:coreProperties>
</file>