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Cryptographic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C17C512-D8BA-48D7-8C9C-6BFA99EEF5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414BF9E-1C54-402D-A736-D9F1F4C82F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896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Cryptographic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6880" y="66600"/>
            <a:ext cx="19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iphers consis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ell known algorithm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number used to prime the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n easy-to-break ci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rotate each letter “N”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 value in the range 1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umber of bits used to represent a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key length of 128 implies (at most)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in the range 1 to 26 can be represented in 5 bits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tradeoff. Longer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cipher more secure with only a little extra overhe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ich i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more storage space and transmission bandwidth (which is 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4680" y="66600"/>
            <a:ext cx="312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ngth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impose legal restrictions on key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ort cipher” refers to a cipher used with a shor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ion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encryption can be used by the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want to allow strong encryption technologies to be used by foreign militaries (possible enem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we allow only weaker encryption to be ex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restrictions on encryption make interna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01240" y="66600"/>
            <a:ext cx="690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placed concern about publ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mathematicians working for the &lt;such-and-such&gt; government keep silent about flaws so they can decode your secret messag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law is likely to be spotted by several people i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keeping silent about flaws just lets somebody else get the cr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hich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not work without reliable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is not just buying books from Ama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online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ock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usiness-to-busines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is driving advances in cryptography much more than the &lt;such-and-such&gt; government’s attempts at s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11440" y="66600"/>
            <a:ext cx="212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u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ata is being transmitted, it might become co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re might be noise on the transmissio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is a way to detect accidental corrup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alculateChecksum(char* data, int siz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int result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 (int i = 0; i &lt; size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sult += (unsigned int)data[i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return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ransmits data plus the checksum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calculates checksum value for receiv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his to the transmitt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56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Authentication Code (M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is not infallible, but it is a usefu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can guard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s too simplistic to guard against deliberate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 authentication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C) is a kind of check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ecksum value is encoded in, say, 20 bytes instead of jus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is 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operties make a MAC unfeasibly difficult to deliberately f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C is one of several ingredients used to ensure secur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pher ensures nobody else can understand a secre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 ensures nobody can modify a secre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introduced some basic termi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y,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= encipher; decrypt = de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 and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uthentication code (MAC) is an encrypt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etect tampering of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a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ecurity through obscurity is a bad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ciphers tested by mathematicians worldwide are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can rely on the same cipher; but they use different (secret)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wo part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the Greek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ryp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hidden or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yp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derground burial place or a secret meeting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yp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“difficult to understand”, that is, a “hidden mea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denotes a process or science for drawing, writing, representing, describing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graphy, choreography, geography, photography, typography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ryptography is the science of hidde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ryp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urn a plaintext message into a hidden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ryp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urn a hidden message back into a plaintex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11760" y="66600"/>
            <a:ext cx="124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abic number system had some importan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much simpler than arithmetic with Roma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pt of zero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f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) has two mean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notes “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notes an order of magnitude (10, 100, 1000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Europeans were confused by the concept of z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as used to refer to something that was a mys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d to mean the deliberate hiding of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most 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ry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ry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24240" y="66600"/>
            <a:ext cx="243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h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lgorithm that enciphers and deciphers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phers take a secr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the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(very simple to break) ci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is: rotate each letter “N”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” is the secr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“N” is 1 then 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, 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, …, 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,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“N” is 2 then 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, 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, …, 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,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e cipher is not enough to decode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lso need to know the key that was used to encode th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8240" y="66600"/>
            <a:ext cx="413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text and cipher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in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a readable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ssage do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be tex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be a graphic file or an audio file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an encrypted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760" y="66600"/>
            <a:ext cx="4532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though obs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through obs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your own cipher (probably with a hardcoded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ody else knows your cipher’s algorithm (so it is obs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stakenly think your secrets are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aw in is that there are always people smarter than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er people are likely to find flaws in your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y can decode all your secre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0960" y="66600"/>
            <a:ext cx="344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known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etter approa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body invents a cipher, he publishes the 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ians around the world test the cipher for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flaws can be found then everybody has confidence in the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t is, good) cipher can be broken only by trying every single possible ke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, say,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keys then this approach might take thousands of years of comput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you need to d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key (at random) to use with the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key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760" y="66600"/>
            <a:ext cx="453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Moore’s La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65, Gordon Moore (co-founder of Intel) made an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in technology mean you can put twice as many transistors onto a chip every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observation has remained true for over 4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ing the transistors usually means doubling the computation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5 years time, computers will be 1000 faster than they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pher that takes 1000 years to crack today will take only one year to crack in 15 years’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to panic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oday’s secret messages will be worthless in 15 years’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it will not be worthwhile for somebody to crack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ciphers will be developed within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44Z</dcterms:modified>
  <cp:revision>1499</cp:revision>
  <dc:subject/>
  <dc:title>Introduction to Spring</dc:title>
</cp:coreProperties>
</file>