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77E9141-34E4-4E43-8D7A-E21C05F5B2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A3343CC-57CE-4436-AC2F-70B863CE03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9600" y="66600"/>
            <a:ext cx="674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goals of cipher-based commun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using a strong cipher and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the use of digital certificates, such as X5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 (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a MAC (message authentication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 (discussed 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34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udi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deny, disown or reject as un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repud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e ability to prove whether or not somebody sent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need for non-repu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thinks the IBM share price will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ells his stockbroker to sell his IBM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afterwards, IBM shares increas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stor pretends he never told his stockbroker to sell his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ckbroker uses non-repudiation to prove the investor is 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0600" y="66600"/>
            <a:ext cx="24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is an important goal i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uthorization is distinct from crypt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by cryp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uthor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upon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5Z</dcterms:modified>
  <cp:revision>1503</cp:revision>
  <dc:subject/>
  <dc:title>Introduction to Spring</dc:title>
</cp:coreProperties>
</file>