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L and T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DF93BA1-CBD3-4AF2-92B4-55AE4333467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1CB5AFF-0890-4A90-9E58-1A45183BA3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SL and T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23600" y="66600"/>
            <a:ext cx="4132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re SSL and TL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94, the world wide web was new and imma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browsers and web servers sent only plaintex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afe to use your credit-card to buy something from a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designed SSL to provide encrypted communication for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 stand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ure sockets lay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scape had a patent for SSL, but made SSL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 matured quickly with the help of the web commun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95, SSL 3.0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96, Netscape handed over responsibility for SSL to the IE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et Engineering Task Fo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FT is an international standard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 renamed the next version of SSL to TLS 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think of TLS 1.0 as being SSL 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66600"/>
            <a:ext cx="6058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xtra layer in the protocol 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plication-level protocol normally talks directly to 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 was designed 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used with HTTP (an application-level protoc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used with other application-level protocols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BA is a remote procedure call (RPC)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secure CORBA protocol is called II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cure CORBA protocol is called IIOP/T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62280" y="66600"/>
            <a:ext cx="5435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ified overview of SSL/T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metric ciph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the two parti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ure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 on a secret k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mmetric ciphers have the opposite proper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 times slower than symmetric ci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afely exchange public keys, even if other people overh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simplified explanation of how SSL 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 uses both symmetric and asymmetric ci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n asymmetric cipher to securely communicate a private key for use with a 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witches over to using the symmetric cipher with the agreed-upon 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6880" y="66600"/>
            <a:ext cx="6622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ified overview of SSL/TL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, SSL uses six secret keys rather than just 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are for client-generated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ree are for server-generated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se of multiple keys makes life even harder for hac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group of three secret keys consist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ey used by the encryption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ey used by the MA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ey used to initialize the encryption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120" y="66600"/>
            <a:ext cx="5597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SL/TLS supports many cip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/TLS uses one of each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re are many competing ciphers in each 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one should be us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initial SSL/TLS handsha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sends a list of ciphers it understands to the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rver picks one from each category and notifies client of its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/TLS can adapt whenever better ciphers are developed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/TLS can adapt to legal restrictions on ciphers in s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S is the new name for S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S 1.0 = SSL 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 was first used to secure communication via 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 be used to secure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 uses both symmetric and asymmetric cip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n asymmetric cipher to securely communicate a private key for use with a 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witches over to using the symmetric cipher with agreed-upon private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coded to use a particular se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and server negotiate on which set of cipher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 can evolve to support newer, better ciphers when they are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5T18:08:24Z</dcterms:modified>
  <cp:revision>1507</cp:revision>
  <dc:subject/>
  <dc:title>Introduction to Spring</dc:title>
</cp:coreProperties>
</file>