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cellaneous Termi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E6D54ED-A60F-4D3F-80C6-8D6AC861F61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958037D-35D2-4235-80E2-D3ACE42831F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cellaneous Termi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6160" y="66600"/>
            <a:ext cx="4116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ly used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ames often appear in books and articles about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wo people who want to communicate secu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lack 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s to intercept and decode or modify messages sent between Alice and 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lack 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s from old cowboy mov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the hero wore a white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villain wore a black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ite 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somebody who fixes security loopholes in compu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08400" y="66600"/>
            <a:ext cx="4333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al and credent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it as being a us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edentia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data that prov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d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ight be a password (to go with the username) or an X509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ana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Dr. John Smith” (that is m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ncip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my passport (or driving license)” to prove I am who I say I am (m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enti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my license to practice medicine” to prove that I am a doctor (another se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enti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1280" y="66600"/>
            <a:ext cx="3003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K, PKI and IET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and private key cip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name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ymmetric cip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and private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ften abbreviated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cronym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 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K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cronym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 key infra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infrastructure required to use public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nsist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 authority (CA)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 used verify a user’s identity so the CA is willing to sign the user’s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ET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cronym fo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et Engineering Task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rganization that defines standards for Internet-related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77800" y="66600"/>
            <a:ext cx="4327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SA, VeriSign and PK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8000"/>
          </a:bodyPr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A is a public-key encryptio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name is an acronym of the surnames of its inven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on Rivest, Adi Shamir and Leonard Adle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invented in 1977 and is still widely use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SA Secu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company set up to promote and exploit cryptographic technologies (including R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A is now owned by EM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KC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cronym for public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cryptographic stand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(pseudo-)standards defined by a RSA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fficially standards, because they are defined by a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several have been adopted by formal standards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iSig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spin-off company from RSA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largest certificate authority for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66600"/>
            <a:ext cx="8105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well-known ciphers used in SSL and T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cip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A, Diffie-Hellman, DSA, SRP, 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cip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2, DES, IDEA (used only in old versions of S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4, Triple DES, AES (also called Rijndael), Camel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ptographic hash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2, MD4 (used only in old versions of S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5, SHA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SS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pher sui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symmetric cipher, 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ymmetric cipher, 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ryptographic hash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egotiated during the initial SSL handsh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17560" y="66600"/>
            <a:ext cx="3879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other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CS#11 is an API used to obtain cryptographic tokens from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from a smart 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CS#12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.p12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file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tore private keys with accompanying public key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le is encrypted for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d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Enhanced MAIL (P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ETF proposed standard for using public key cryptography in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widely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M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.pem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 extension) is used by OpenS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SL can convert betwe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.pem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.p12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4:25Z</dcterms:modified>
  <cp:revision>1510</cp:revision>
  <dc:subject/>
  <dc:title>Introduction to Spring</dc:title>
</cp:coreProperties>
</file>