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4BCF463A-313C-4058-B4A1-788C702E45F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014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612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95ACE387-A6CC-414E-99DD-16CEB3AD217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 to LDA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20" y="6529320"/>
            <a:ext cx="5410080" cy="28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3886200" y="2362320"/>
            <a:ext cx="1371600" cy="2232000"/>
            <a:chOff x="3886200" y="2362320"/>
            <a:chExt cx="1371600" cy="2232000"/>
          </a:xfrm>
        </p:grpSpPr>
        <p:grpSp>
          <p:nvGrpSpPr>
            <p:cNvPr id="86" name=""/>
            <p:cNvGrpSpPr/>
            <p:nvPr/>
          </p:nvGrpSpPr>
          <p:grpSpPr>
            <a:xfrm>
              <a:off x="4038480" y="3146400"/>
              <a:ext cx="136440" cy="136440"/>
              <a:chOff x="4038480" y="3146400"/>
              <a:chExt cx="136440" cy="136440"/>
            </a:xfrm>
          </p:grpSpPr>
          <p:sp>
            <p:nvSpPr>
              <p:cNvPr id="87" name=""/>
              <p:cNvSpPr/>
              <p:nvPr/>
            </p:nvSpPr>
            <p:spPr>
              <a:xfrm>
                <a:off x="403848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05108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4038480" y="3390840"/>
              <a:ext cx="136440" cy="136440"/>
              <a:chOff x="4038480" y="3390840"/>
              <a:chExt cx="136440" cy="136440"/>
            </a:xfrm>
          </p:grpSpPr>
          <p:sp>
            <p:nvSpPr>
              <p:cNvPr id="90" name=""/>
              <p:cNvSpPr/>
              <p:nvPr/>
            </p:nvSpPr>
            <p:spPr>
              <a:xfrm>
                <a:off x="403848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05108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4038480" y="3603600"/>
              <a:ext cx="136440" cy="136440"/>
              <a:chOff x="4038480" y="3603600"/>
              <a:chExt cx="136440" cy="136440"/>
            </a:xfrm>
          </p:grpSpPr>
          <p:sp>
            <p:nvSpPr>
              <p:cNvPr id="93" name=""/>
              <p:cNvSpPr/>
              <p:nvPr/>
            </p:nvSpPr>
            <p:spPr>
              <a:xfrm>
                <a:off x="403848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05108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038480" y="3848040"/>
              <a:ext cx="136440" cy="136440"/>
              <a:chOff x="4038480" y="3848040"/>
              <a:chExt cx="136440" cy="136440"/>
            </a:xfrm>
          </p:grpSpPr>
          <p:sp>
            <p:nvSpPr>
              <p:cNvPr id="96" name=""/>
              <p:cNvSpPr/>
              <p:nvPr/>
            </p:nvSpPr>
            <p:spPr>
              <a:xfrm>
                <a:off x="403848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5108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4038480" y="4076640"/>
              <a:ext cx="136440" cy="136440"/>
              <a:chOff x="4038480" y="4076640"/>
              <a:chExt cx="13644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403848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05108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968720" y="3146400"/>
              <a:ext cx="136440" cy="136440"/>
              <a:chOff x="4968720" y="3146400"/>
              <a:chExt cx="136440" cy="136440"/>
            </a:xfrm>
          </p:grpSpPr>
          <p:sp>
            <p:nvSpPr>
              <p:cNvPr id="102" name=""/>
              <p:cNvSpPr/>
              <p:nvPr/>
            </p:nvSpPr>
            <p:spPr>
              <a:xfrm>
                <a:off x="496872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8132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4968720" y="3390840"/>
              <a:ext cx="136440" cy="136440"/>
              <a:chOff x="4968720" y="3390840"/>
              <a:chExt cx="13644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496872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8132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4968720" y="3603600"/>
              <a:ext cx="136440" cy="136440"/>
              <a:chOff x="4968720" y="3603600"/>
              <a:chExt cx="136440" cy="13644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872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98132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968720" y="3848040"/>
              <a:ext cx="136440" cy="136440"/>
              <a:chOff x="4968720" y="3848040"/>
              <a:chExt cx="136440" cy="136440"/>
            </a:xfrm>
          </p:grpSpPr>
          <p:sp>
            <p:nvSpPr>
              <p:cNvPr id="111" name=""/>
              <p:cNvSpPr/>
              <p:nvPr/>
            </p:nvSpPr>
            <p:spPr>
              <a:xfrm>
                <a:off x="496872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98132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968720" y="4076640"/>
              <a:ext cx="136440" cy="136440"/>
              <a:chOff x="4968720" y="4076640"/>
              <a:chExt cx="136440" cy="136440"/>
            </a:xfrm>
          </p:grpSpPr>
          <p:sp>
            <p:nvSpPr>
              <p:cNvPr id="114" name=""/>
              <p:cNvSpPr/>
              <p:nvPr/>
            </p:nvSpPr>
            <p:spPr>
              <a:xfrm>
                <a:off x="496872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98132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419720" y="3338640"/>
              <a:ext cx="304560" cy="838080"/>
              <a:chOff x="4419720" y="3338640"/>
              <a:chExt cx="304560" cy="838080"/>
            </a:xfrm>
          </p:grpSpPr>
          <p:sp>
            <p:nvSpPr>
              <p:cNvPr id="117" name=""/>
              <p:cNvSpPr/>
              <p:nvPr/>
            </p:nvSpPr>
            <p:spPr>
              <a:xfrm>
                <a:off x="4419720" y="3338640"/>
                <a:ext cx="304560" cy="304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419720" y="3567240"/>
                <a:ext cx="304560" cy="609480"/>
              </a:xfrm>
              <a:custGeom>
                <a:avLst/>
                <a:gdLst/>
                <a:ahLst/>
                <a:rect l="l" t="t" r="r" b="b"/>
                <a:pathLst>
                  <a:path w="192" h="384">
                    <a:moveTo>
                      <a:pt x="48" y="0"/>
                    </a:moveTo>
                    <a:lnTo>
                      <a:pt x="0" y="384"/>
                    </a:lnTo>
                    <a:lnTo>
                      <a:pt x="192" y="384"/>
                    </a:lnTo>
                    <a:lnTo>
                      <a:pt x="144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4968720" y="4305240"/>
              <a:ext cx="136440" cy="136440"/>
              <a:chOff x="4968720" y="4305240"/>
              <a:chExt cx="136440" cy="136440"/>
            </a:xfrm>
          </p:grpSpPr>
          <p:sp>
            <p:nvSpPr>
              <p:cNvPr id="120" name=""/>
              <p:cNvSpPr/>
              <p:nvPr/>
            </p:nvSpPr>
            <p:spPr>
              <a:xfrm>
                <a:off x="496872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8132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4038480" y="4305240"/>
              <a:ext cx="136440" cy="136440"/>
              <a:chOff x="4038480" y="4305240"/>
              <a:chExt cx="136440" cy="136440"/>
            </a:xfrm>
          </p:grpSpPr>
          <p:sp>
            <p:nvSpPr>
              <p:cNvPr id="123" name=""/>
              <p:cNvSpPr/>
              <p:nvPr/>
            </p:nvSpPr>
            <p:spPr>
              <a:xfrm>
                <a:off x="403848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05108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3886200" y="2994120"/>
              <a:ext cx="1371600" cy="160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359240" y="4305240"/>
              <a:ext cx="136440" cy="136440"/>
              <a:chOff x="4359240" y="4305240"/>
              <a:chExt cx="136440" cy="136440"/>
            </a:xfrm>
          </p:grpSpPr>
          <p:sp>
            <p:nvSpPr>
              <p:cNvPr id="127" name=""/>
              <p:cNvSpPr/>
              <p:nvPr/>
            </p:nvSpPr>
            <p:spPr>
              <a:xfrm>
                <a:off x="435924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37184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664160" y="4305240"/>
              <a:ext cx="136440" cy="136440"/>
              <a:chOff x="4664160" y="4305240"/>
              <a:chExt cx="136440" cy="136440"/>
            </a:xfrm>
          </p:grpSpPr>
          <p:sp>
            <p:nvSpPr>
              <p:cNvPr id="130" name=""/>
              <p:cNvSpPr/>
              <p:nvPr/>
            </p:nvSpPr>
            <p:spPr>
              <a:xfrm>
                <a:off x="466416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67676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4359240" y="3146400"/>
              <a:ext cx="136440" cy="136440"/>
              <a:chOff x="4359240" y="3146400"/>
              <a:chExt cx="136440" cy="136440"/>
            </a:xfrm>
          </p:grpSpPr>
          <p:sp>
            <p:nvSpPr>
              <p:cNvPr id="133" name=""/>
              <p:cNvSpPr/>
              <p:nvPr/>
            </p:nvSpPr>
            <p:spPr>
              <a:xfrm>
                <a:off x="435924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7184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4664160" y="3146400"/>
              <a:ext cx="136440" cy="136440"/>
              <a:chOff x="4664160" y="3146400"/>
              <a:chExt cx="136440" cy="136440"/>
            </a:xfrm>
          </p:grpSpPr>
          <p:sp>
            <p:nvSpPr>
              <p:cNvPr id="136" name=""/>
              <p:cNvSpPr/>
              <p:nvPr/>
            </p:nvSpPr>
            <p:spPr>
              <a:xfrm>
                <a:off x="466416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7676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4141800" y="2362320"/>
              <a:ext cx="83952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45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8312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75280" y="2414520"/>
              <a:ext cx="761400" cy="61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7816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37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99000" y="78840"/>
            <a:ext cx="167616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AP = Lightweight Directory Access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AP is useful when you ha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r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us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DAP to centralize directory inform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sier admin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AP is relevant to security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X509 certificate contains an LDA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inguished 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DAP can be used to centralize usernames, passwords, public key certificates and use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ole mapp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8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38200" y="66600"/>
            <a:ext cx="2670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LDAP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AP = Lightweight Directory Access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look at each of those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recto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collection of information you can look up to find a person, organization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probably encountered many directo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“telephone directory”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“directory enquiries” telephone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rectory of sports clubs, embassies, local businesse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 uses the te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recto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ame way that Windows uses the te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l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s you to look up a file by it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09640" y="66600"/>
            <a:ext cx="38574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LDAP?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AP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ghtweigh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mparison to its predecess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e X.500 directory serv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ed on top of TCP/IP rather than with the 7-layer OSI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its many operations that were rarely used in X.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AP i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tocol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a specification for how clients communicate with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implement LDAP clients and servers in many programming languages and on many operating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LDAP i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ghtweight protoco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enables clients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cess directo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06560" y="66600"/>
            <a:ext cx="5286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evance of LDAP to secu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knowledge of LDAP is useful when working with secure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X509 certificate contain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inguished n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rm comes from LD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rganizations use LDAP to centrali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names and pass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key certif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ole mappings (for access control lis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65160" y="66600"/>
            <a:ext cx="35622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ical use of LD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user systems require access to directory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ng system: usernames and passwords, user-specific information (home directory, default shell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l client: usernames and passwords, email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g-tracking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error-prone to update a user’s details if each system has its own directory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each system can act as an LDAP client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centralize directory inform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sier admin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s can use LDAP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login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 auto-completion of, say, names or email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ieve use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ole mappings for access control 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63600" y="66600"/>
            <a:ext cx="4749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ical use of LDAP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AP is of limited benefit if you have just one multi-us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ulti-user system might provide its own built-in directory service that is easier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 of LDAP grow quickly as an organization gets several multi-us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lready discussed, LDAP offers centralized admin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DAP also offers replication and federation (splitting a directory’s contents over several, inter-connected LDAP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of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with a standalone computer, for example, home users, are unlikely to use LDAP or even know what it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ors in large organizations are more likely to be familiar with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92480" y="66600"/>
            <a:ext cx="2712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AP schem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chema is meta-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written in the syntax of the thing it descri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atabase schema describes the structure of a databa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s of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s and types of columns within each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AP uses schem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define an LDAP schema for the information you want to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chema syntax is a bit obscure and outside the scope of this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14400" y="66600"/>
            <a:ext cx="3663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AP and datab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AP and databases have some characteristics in comm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can perform searches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have extensible sch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are some dif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DAP assumes that reads are much more frequent than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ontrast, a database assumes that reads and updates occur with similar 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DAP does not support trans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remember that LDAP is an on-the-wire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LDAP server can use any technology it wants to store its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might use tex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might use a databa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ut it won’t expose the database’s transaction capability to cli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jmchale</cp:lastModifiedBy>
  <cp:lastPrinted>2002-08-30T21:11:41Z</cp:lastPrinted>
  <dcterms:modified xsi:type="dcterms:W3CDTF">2008-05-11T22:14:12Z</dcterms:modified>
  <cp:revision>1509</cp:revision>
  <dc:subject/>
  <dc:title>Introduction to Spring</dc:title>
</cp:coreProperties>
</file>