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AC5E3CA-ED30-4DC2-9D90-FDE4D1DF32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977610E-2A0E-4F13-93F9-FA2C3C8368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924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get a copy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obtain this training course from the author’s 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CiaranMcHal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download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i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owerPoint and PDF form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Slides Manual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DF file with 2, 4, 6 or 8 slides per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Notes Manual” to complement the sli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LaTeX and PDF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a more detailed discussion of the topics in this chapter in Chapter 1 (“Introduction”)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es Manu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7080" y="66600"/>
            <a:ext cx="397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 changed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layed a significant part in ending 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is autobiography, Nelson Mandela wr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had ever suggested to me how to go about removing the evils of racial prejudice, and I had to learn by trial and error.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0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who want to change the world face the same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kills they need to do so are not taught in schools or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aining course addresses this skills shor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s some skills that can be learn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other skills that require more effort to lear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study those skills outside of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8880" y="66600"/>
            <a:ext cx="3248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is for people who want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t least their part of the 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their country or neighbourhood, or an 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eople self-identify with many different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activist, community leader, concerned citizen, entrepreneur, researcher, politicia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find this course useful even if you do not want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kills for changing the world are inter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skills can increase chances of success in your career and person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66600"/>
            <a:ext cx="571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issing from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opic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organize a protest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write a funding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son for such omissions is that the details vary widely from one country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eason is philosoph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learn to do something right, you should make sure you are doing the right thing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focuse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ncip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the right thing to do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tai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how to do something righ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34720" y="66600"/>
            <a:ext cx="5025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raining course is “fre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is released under a “free” copyright lice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 people call an “open source” copyright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“free” and “open source” come from the programm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s means for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ining materials (in electronic form) are available 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the freedom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, copy and modify the 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the training course (free-of-charge or for pro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s:  don’t remove the copyright notice;  don’t sue th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440" y="66600"/>
            <a:ext cx="657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making this a free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who try to change the world f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jor reason for this is that they lack many of the require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hor of this course has an ambitious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 learn skills needed for changing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s will help to accelerate (mostly beneficial) chang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he cannot achieve this goal by him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incomplete knowledge of skills required to change the 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there is lots of room for improvemen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a limited amount of time to teach this cours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6880" y="66600"/>
            <a:ext cx="7759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making this a free cours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his course free helps to overcome thos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ree to modify the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some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ew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the course can grow and improv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ree to teach this course to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-of-charge or for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you (and many others like you) can help millions of people to learn the skills in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76320" y="66600"/>
            <a:ext cx="5346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urse is “self-teachabl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one more important aspect of 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elf-t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ad the slides yourself and understand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 not need an instructor to teach the course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knowledgeable instru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classroom discussion of issues raised in the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anecdotes to illustrate points in th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“self-teachable” aspect of this course is impor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 does not have to train instructor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anyone can become an instructor for this cou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slides to understa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, ideally, read some books mentioned in the slides to flesh out you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10T09:43:06Z</dcterms:modified>
  <cp:revision>1148</cp:revision>
  <dc:subject/>
  <dc:title>Introduction</dc:title>
</cp:coreProperties>
</file>