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Kinds of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93478B1-5833-40C9-A09C-86215AA1C1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9DFF4DB-F046-44AD-9A8C-B82E66E3EF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wo Kinds of Pow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7640" y="66600"/>
            <a:ext cx="7062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power to help peo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Howard Griffin was a white author in Ame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59, he darkened his skin so he appeared to be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lived as a black man for 4 weeks and then wrote of his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he helped to expose the extent of racism 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-rights activists, like Martin Luther King and Malcolm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hammad Yunus was an economics profess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aw people in Bangladesh starving to death because of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77 he started with $27, giving microcredit (small loans) to help people work their way out of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microcredit system has spread to over 50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nd his Grameen Bank won the Nobel Peace Prize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87640" y="66600"/>
            <a:ext cx="310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common the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ight be able to think of many mor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common theme in the examples on the previous slid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ose peop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ing others th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mous and di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“pow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y used “pow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he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they became famo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caus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quite different to thinking that they were able to do the work because they were already f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famous w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otivation for wanting to help oth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faced hardship because of their desire to help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aced death threats, and some were assass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24040" y="66600"/>
            <a:ext cx="3841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kelihood of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amples show that “power to help people”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just because i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, does not mean i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ike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the examples are exceptions rather than th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probably know individuals who like to help others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f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effective (they have an insignificant impact on the wor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an you do to make “power to help people”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ffective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Making “power to help people”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0" y="66600"/>
            <a:ext cx="1170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should focus your work on jus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two reasons for th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’s better to make a large impact on one issue than smaller impacts on sever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for the world, and better for your mo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prefer specialists over genera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wspaper has printed lies that damage your re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ant to sue the newspaper for l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hire a lawyer who does many types of cases (divorce, accident compensation, making wills, contracts, copyright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do you hire a lawyer who specializes in lib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are more likely to help you if you specialize your efforts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54440" y="66600"/>
            <a:ext cx="1563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tru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ltruis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an unselfish concern for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acts of altruism are beneficial for others, but harmful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oup altruism is rare but can be very effective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ights activists tell oppressed people “You have to stand up to your oppressor. You might be killed or imprisoned but it will give freedom to future generati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, Martin Luther King, Malcolm X succeeded with that tac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n earthquake or storm puts many people at risk, the populations of other countries often donate millions to provide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ns of thousands of programmers around the world write free or open-sourc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ns of thousands of people contribute to Wikipedia (an online encyclopae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4040" y="66600"/>
            <a:ext cx="275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ruism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ari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altruism is rare but can be very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altruism is more common, but less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, a person who changes the world does so by creating group altru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gnifies the effect that the person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erson’s “power to help people” becomes a large group’s “power to help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re more likely to follow your altruistic lead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ee you are dedicated to the issue (hence the need to foc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are willing to suffer as much as them in being altru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1760" y="66600"/>
            <a:ext cx="4708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Richard Stall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rst few decades of computers, hardware was sold,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often distributed free of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oth binary (ready-to-run) and source code (recipe)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users modified source code to fix bugs or add new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ay, Richard Stallm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 a bug in some software to control a pr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sked for the source code so he could fix the 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nufacturer refused to give him the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thought this was unacceptable and, in fact, immo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on, he started noticing other similar cases of users being denied what he felt was a legitimate right to access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84360" y="66600"/>
            <a:ext cx="5896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Richard Stallma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ve to proprietary software acceler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did not have po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ould not force companies to provide source code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he eventually realized he had po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hel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sked myself: what could I, an operating-system developer, do to improve the situation? It wasn’t until I examined the question for a while that I realized that an operating-system developer was exactly what was needed to solve the probl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decided he would write an entir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alled it GNU (a recursive pun for “GNU is not UNIX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ll of it non-proprietary, provide everyone with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willing to dedicate his entire life to this (foc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84360" y="66600"/>
            <a:ext cx="5896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Richard Stallma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publicly asked others to join hi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request was initially met with optimism but disb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unity reaction was pretty much uniform. People said, ‘Oh, that’s a great idea. Show us your code. Show us it can be done.’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ch Mo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months later he released the first piece of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GNU Emacs (a powerful text edito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could see he was dedicated, and acting altruis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s to help him increased grea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82720" y="66600"/>
            <a:ext cx="3719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Bob Geld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Geldof enjoyed success with The Boomtown 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by 1984, they were no longer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ate 1984, Bob Geldof saw a news report about fa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ould I do? I could send some money. […] But that didn’t seem enough. […] What else could I do? I was only a pop singer. And by now not a very successful pop singer. […] All I could do was make records that no one bough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ecided to make a record and donate the profits to cha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cord would not sell well if it was recorded by The Boomtown R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he asked other, more popular singers, to join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surprised that so many agreed so rea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13 (“Driven to Tears”) of his autobiography discusses how many others also agreed to give time, forego profits and incurred great personal expense to help with this charit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8928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ople” can be used to change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you probably won’t become powerful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o use “po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hel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everybody has this power, but most don’t use it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ome famous examples of this type of power being used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s for making “power to help people” eff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one issue rather than spread your energy on man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ways to make a large group of people act in an altruistic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apters in this training course discuss related skills and insights that will help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05000" y="66600"/>
            <a:ext cx="287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qu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oleon Bonaparte (176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1821), French general,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persons who speak make more noise than ten thousand who are sil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aret Mead (19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8), American cultural anthrop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doubt that a small group of thoughtful, committed citizens can change the world. In fact, it’s the only thing that ever ha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need power to change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, not necessarily the kind of power that most people think you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two different kinds of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explains which one is more likely to help you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Power ov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01960" y="66600"/>
            <a:ext cx="3284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wer over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think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being “power ov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bility to get people to do what you want through money, authority, threats o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ight think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I could significantly change the world if I were…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rich, for example, a bill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ident or prime minister of a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wner and manager of a larg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fortunat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unlikely to be any of those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unlikely to be successful if you plead with such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I think you should use your money or power to 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66600"/>
            <a:ext cx="8248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tting “power over people” is not a viabl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lan to change the world shoul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get lots of power ove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use that power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? Because the first part of the plan is unlikely to suc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oth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d of power that it much easier to ob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at other kind of power has a proven track record for being able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Power to help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0000" y="66600"/>
            <a:ext cx="369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wer to help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think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being “pow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bility to get people to do what you want through money, authority, threats o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also be “powe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help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most everybody has this kind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do not use this kind of power as much as they c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examining this kind of power, let’s look at examples of its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36200" y="66600"/>
            <a:ext cx="5875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power to help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there was a vaccine to prevent polio, Sister Kenny developed a cure, and spent decades curing mil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her Theresa helped poor people around the world, most notably in Calcutta,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opposed oppression in South Africa and In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he ended British rule of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promoted the idea of free(dom)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GPL copyright is the most popular software licens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x Haley was an author struggling to make a liv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rot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Autobiography of Malcolm 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he wrote about his slave ancestry in the book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1:47:52Z</dcterms:modified>
  <cp:revision>1129</cp:revision>
  <dc:subject/>
  <dc:title>Two Kinds of Power</dc:title>
</cp:coreProperties>
</file>