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E3770D1-BB0D-4635-822D-7371F0649D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A228D3E-7083-4455-832B-32DF6A6F86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ropout rate dropp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lked a student out of committing sui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eared on TV shows and in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book (“Be Cool… Stay In School”) has a forward by President George 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ho change the world have varied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 or poor, male or female, highly educated or un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lacked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had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elonged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does not matter what your backgroun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for you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tion in this training course can help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5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they cannot change the world because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ri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ducate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criminal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ong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rt chapter shows that people who have changed the world come from all sorts of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24120" y="66600"/>
            <a:ext cx="184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one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 has 5 university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tin Luther King Jr. had a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university degree i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ard Stallman was a child prodi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the other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Oliver is dyslexic and was in the “special needs” class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exams in his final year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colm X dropped out of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92680" y="66600"/>
            <a:ext cx="128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rich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r was the daughter of a poli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middleclass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poor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Geldof came from a working-class background. He had a succession of menial jobs and lived in squ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2560" y="66600"/>
            <a:ext cx="28702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minal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 committed many cr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ing drugs (he was also addicted to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itution (he safely escorted white customers into a black ghetto to visit black prostit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Bob Geldof was an illegal immigrant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enager, Bruce Lee founded his own street gang and often got into trouble with the police for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36520" y="66600"/>
            <a:ext cx="140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famous women who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(founder of The Body 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ria Steinem (and many other femin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rence Nightingale (significant contributions to health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r (put feminism and educational values into children’s st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6320" y="66600"/>
            <a:ext cx="408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elf-conf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had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fear caused him to be unable to defend his clients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vercame this fear only when he emigrated to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was a social mis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cademically brilliant but had very 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63560" y="66600"/>
            <a:ext cx="403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ith disabilities have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ston Churchill suffered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dysle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ays he might have a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ril Arthur Pearson was bl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up a hostel to teach soldiers blinded in the First World War how to cope with living blind, and skills for new car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51:05Z</dcterms:modified>
  <cp:revision>1124</cp:revision>
  <dc:subject/>
  <dc:title>All Sorts of People Change the World</dc:title>
</cp:coreProperties>
</file>