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6088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tivation, Vocation and Disillusi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75482403-246E-456F-B962-1B174D2BDCC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1746B4E6-1C5E-418B-ACC7-7F039E3C60D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040"/>
            <a:ext cx="8858160" cy="98100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Motivation, Vocation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nd Disillusion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95200" y="66600"/>
            <a:ext cx="66862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: Martin Luther King Jr.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n he heard a sermon about Gandh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s message was so profound and electrifying that I left the meeting and bought a half-dozen books on Gandhi’s life and work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reading about Gandhi, he “discovered the method for social reform that I had been seekin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pter 4 concerns his post-graduate study for a Ph.D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continued studying philosophies, including Personalism and Heg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continued study helped him to refine his tactics for achieving his g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y the time he finished his Ph.D., he had “an intellectual understanding” of non-violent resistance, but “no firm determination to organize it in a socially effective situa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was another 18 months before he found an opportunity to start using the tactic of non-violent re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747960" y="66600"/>
            <a:ext cx="15861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took Martin Luther King Jr. more than 10 years to find and start using a tactic to achieve his g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wa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proactively searching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a tactic during that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he had waited passively for inspiration to strike him t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may not have found any tactic at 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 perhaps he would have used a different tactic, such as armed revol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which is unlikely to have been as successfu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iting passively for inspiration is rarely product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piration does not appear in a vacu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tead, you need input to feed inspi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can get that input from work (or study) plus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 Becoming disillusioned with a v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98120" y="66600"/>
            <a:ext cx="75978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pain of insults and having to leave a jo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hurt of being insulted var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hurt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 littl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the insult comes from a stranger or slight acquain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hurt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 lo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the insult comes from a friend or family m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kewise, how much it hurts to have to leave a job var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it is “just” a job (and you can get another easily) then it hurt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 littl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it is a “dream” job then it hurt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 lo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you considered the job to be your vocation then it can b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gon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31480" y="66600"/>
            <a:ext cx="68468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pain of dysfunctional organiz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people consider their career to be a voc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s: doctors, nurses, teachers, lawyers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ocational careers are not guaranteed to be free from dysfunctional working environ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dysfunctional working environment can be agony for people who consider their careers to be a v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change career to escape dysfunction, thus ending their v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stay in the same job, but their vocational zeal gets burned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ame problem can happen to activ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activist organizations have dysfunctional working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coming disillusioned with a not-for-profit organization can be just as much agony as becoming disillusioned with a (paying) care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90520" y="66600"/>
            <a:ext cx="12891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are some things you encounter rarely, if e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: most people buy a house only once or twice in their l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can be difficult to cope with rare events because you lack experienc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nd most people you know also lack relevant experi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coming disillusioned with your vocation is one of these rarely encountered 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 not think you are the only person to ever face the iss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cause this is a rarely encountered problem, most people you know may not have experienced it, but that doesn’t mean it is u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 not feel you are being “too sensitive” for feeling so up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your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vocatio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of course you feel up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ople who don’t understand how upset you are probably don’t have a vocation of their 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303360" y="66600"/>
            <a:ext cx="24764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ice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pt it may take a long time to put your life back on trac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ably many months, possibly several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o not feel bit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ative emotions will sap your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her than thinking “the other people are to blame”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nk “we were not compatible so it is best to go separate way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 of ways you can adapt your vocation so you can continue it by yoursel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ing by yourself means you can avoid dysfunctional organ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eacher ends up thinking that state education is dysfunc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acher could switch to a non-teaching care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the teacher could find an alternative way to continue teach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uch as offering private tui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62320" y="66600"/>
            <a:ext cx="2556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evant boo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llowing autobiography discusses an activist’s disillusi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Autobiography of Malcolm 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line of sto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lcolm X was a minister in the Nation of Islam; this was his v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 exposure made him fam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, combined with excellent communication skills helped him to grow the religious organization very f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ministers in the religion became envious of his su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lcolm discovered corruption at the top level of the organization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shook his faith in his v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ation of Islam found an excuse to expel h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ing an inspirational book (or this training course) may motivate you for a few wee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the motivation will wear off unless you have a purpose or v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ice: reread this training course when you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 v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ing your vocation can take a long ti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wait passively for inspiration to stri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ead, proactively work or study until you find your v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ay become disillusioned with your voc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ay be due to a dysfunctional work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h disillusionment can be ago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ing with a rare event (such as vocation disillusionment) is difficul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probably lack relevant experience to cope w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people’s lack of experience makes it difficult for them to understand why you are so up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Motivation without a v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66600"/>
            <a:ext cx="74390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tivation without purpose has limited u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ts of books and speakers are inspir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leave you feeling motivated to do some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fortunately, the motivation usually wears off after a few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is probably because you don’t have a “vocation”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something deeply meaningful to you that you want to work 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tivation combine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vocation can produce great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tivation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withou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vocation usually fades quick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v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training course may provide you with moti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you haven’t yet found your vocation then reread this training course when you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hav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und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Finding your v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65320" y="66600"/>
            <a:ext cx="67896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ny people have not found a vo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people think “I don’t know what I want to do with my lif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may have a vague goal, but they don’t know how they should achieve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road goal: “I want to work in computer softwar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sibilities: programmer, tester, manager, technical support, sales, marketing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road goal: “I want to end social injustic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sibilities: Become a lawyer? Join Amnesty International? Organize protest marches? Fundraising? Lobby politicians? Plot a revolution to overthrow a dictator?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93560" y="66600"/>
            <a:ext cx="4491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ow to find your vo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people passively wait for inspiration to strike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strategy is rarely produ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better approach is to work at (or study)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ometh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ferably something that seems at least partially right for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eep analysing your area of work to determine its mismatch for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will help you to refine your ideas about what your vocation should 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12600" y="66600"/>
            <a:ext cx="5499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: Martin Luther King J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ollowing example is taken from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e Autobiography of Martin Luther King Jr.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pters 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pter 2 concerns his time in univers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always had a deep urge to serve humanity, but I didn’t start out with an interest to enter the ministry. I thought I could probably do it better as a lawyer or doctor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, he had a broad goal (“serve humanity”) but did not know how to achieve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s first inspiration for how to achieve that goal came from reading</a:t>
            </a:r>
            <a:br>
              <a:rPr sz="2000"/>
            </a:b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On Civil Disobedienc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y American philosopher Henry David Thore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was do deeply moved that I reread the work several tim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95200" y="66600"/>
            <a:ext cx="66862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: Martin Luther King Jr.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pter 3 concerns his time studying in a semina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began “a serious intellectual quest for a method to eliminate social evi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read many philosophies, theologies and political idealis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to, Aristotle, Rousseau, Hobbes, Bentham, Mill, Locke, Walter Rauschenbusch, Karl Marx, Lenin, Nietzsche, Reinhold Niebu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found flaws with most of them, but also some good ins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ill, he had not found a tactic for achieving his goal that was compatible with his ethic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uring this period […] I thought the only way we could solve our problem of segregation was an armed revolt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7-08T22:04:16Z</dcterms:modified>
  <cp:revision>1161</cp:revision>
  <dc:subject/>
  <dc:title>Talent Scouts and Funding Bodies</dc:title>
</cp:coreProperties>
</file>