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0C21B44-3AFF-48C8-AF44-1866BC10D2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5E6819E-ECB4-4047-9C42-D4536874D9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6280" y="66600"/>
            <a:ext cx="744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reactions to proposals for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you propose a way to improv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ossible negative reactions from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was a good idea then somebody else would have thought of it alrea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ion: “Your proposal is obviously flaw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ystem was designed by experts. Apparently, you think you know better than the exper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ion: “You are arrogant to think you can make a contrib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h reactions suggest that the world is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66600"/>
            <a:ext cx="658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ys in which the world is not perf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countless ways in which the world is imperf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a global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, famine,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your own cou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upt politicians, unethical business practices, pollutio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taxes, high unemployment, poo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probably think of imperf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your local town o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the industry in which you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families (mom and dad keep arguing, your brother just split up with his girlfriend, your sister got fired, your son is failing subjects in sch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776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ions a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In big things and small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trange that people react negatively when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tus quo is flawed. I think I can improv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1: Som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e the status quo is imperfect but do not have energy to try to impro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l guilty about doing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ze you to hide their guilty 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ggest flaw in the world is that many people passively accept imperfections, rather than attempt to improve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think this flaw is part of huma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s think it is a result of social cond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5840" y="66600"/>
            <a:ext cx="625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 for want-to-be entrepren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dream of starting their ow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don’t because they cannot think of a product to make or 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simple way to think of busines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, realiz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tus quo is flawed” means “there are lots of proble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there is a problem, there is an opportun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you can find opportunities by analysing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into the daily habit of analysing things you think are irritating, flawed or probl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think of an improvement or a better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build a business around this improvement or better alterna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46240" y="66600"/>
            <a:ext cx="5005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invention of Velc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41, George de Mestral noticed something sticking to his clothes and his dog’s f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the burrs (prickly seeds) of burd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xamined a burr under a microsc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w the burr had lots of h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were catching on anything with loops, such as fur or cl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would see only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ble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bur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tick easily and are difficult to 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rge de Mestral saw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pportun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 was Velcro (the hook and loop faste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9200" y="66600"/>
            <a:ext cx="7697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innovations in sports water bott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glass bottles can break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make bottles from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awkward to unscrew bottle cap when exerc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a pull-up top that can be opened and closed with te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bottles are difficult to grip when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make bottles with a gripping 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teresting book on turning problems int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rtunities i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Not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by Barry Nalebuf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an Ay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934320" y="2733840"/>
            <a:ext cx="1891800" cy="3590640"/>
            <a:chOff x="6934320" y="2733840"/>
            <a:chExt cx="1891800" cy="3590640"/>
          </a:xfrm>
        </p:grpSpPr>
        <p:grpSp>
          <p:nvGrpSpPr>
            <p:cNvPr id="100" name=""/>
            <p:cNvGrpSpPr/>
            <p:nvPr/>
          </p:nvGrpSpPr>
          <p:grpSpPr>
            <a:xfrm>
              <a:off x="7630920" y="2733840"/>
              <a:ext cx="482400" cy="142920"/>
              <a:chOff x="7630920" y="2733840"/>
              <a:chExt cx="482400" cy="142920"/>
            </a:xfrm>
          </p:grpSpPr>
          <p:sp>
            <p:nvSpPr>
              <p:cNvPr id="101" name=""/>
              <p:cNvSpPr/>
              <p:nvPr/>
            </p:nvSpPr>
            <p:spPr>
              <a:xfrm>
                <a:off x="7661160" y="2733840"/>
                <a:ext cx="4240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0920" y="2791080"/>
                <a:ext cx="48240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564320" y="3009960"/>
              <a:ext cx="609120" cy="142920"/>
              <a:chOff x="7564320" y="3009960"/>
              <a:chExt cx="609120" cy="142920"/>
            </a:xfrm>
          </p:grpSpPr>
          <p:sp>
            <p:nvSpPr>
              <p:cNvPr id="104" name=""/>
              <p:cNvSpPr/>
              <p:nvPr/>
            </p:nvSpPr>
            <p:spPr>
              <a:xfrm>
                <a:off x="7602480" y="3009960"/>
                <a:ext cx="5353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64320" y="3067200"/>
                <a:ext cx="60912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502400" y="4057560"/>
              <a:ext cx="761760" cy="167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54800" y="6296040"/>
              <a:ext cx="1047240" cy="28440"/>
            </a:xfrm>
            <a:custGeom>
              <a:avLst/>
              <a:gdLst/>
              <a:ahLst/>
              <a:rect l="l" t="t" r="r" b="b"/>
              <a:pathLst>
                <a:path w="660" h="18">
                  <a:moveTo>
                    <a:pt x="0" y="0"/>
                  </a:moveTo>
                  <a:cubicBezTo>
                    <a:pt x="10" y="2"/>
                    <a:pt x="20" y="4"/>
                    <a:pt x="33" y="6"/>
                  </a:cubicBezTo>
                  <a:cubicBezTo>
                    <a:pt x="46" y="8"/>
                    <a:pt x="61" y="11"/>
                    <a:pt x="78" y="12"/>
                  </a:cubicBezTo>
                  <a:cubicBezTo>
                    <a:pt x="95" y="13"/>
                    <a:pt x="110" y="14"/>
                    <a:pt x="138" y="15"/>
                  </a:cubicBezTo>
                  <a:cubicBezTo>
                    <a:pt x="166" y="16"/>
                    <a:pt x="213" y="18"/>
                    <a:pt x="246" y="18"/>
                  </a:cubicBezTo>
                  <a:cubicBezTo>
                    <a:pt x="279" y="18"/>
                    <a:pt x="305" y="18"/>
                    <a:pt x="339" y="18"/>
                  </a:cubicBezTo>
                  <a:cubicBezTo>
                    <a:pt x="373" y="18"/>
                    <a:pt x="422" y="18"/>
                    <a:pt x="453" y="18"/>
                  </a:cubicBezTo>
                  <a:cubicBezTo>
                    <a:pt x="484" y="18"/>
                    <a:pt x="502" y="16"/>
                    <a:pt x="525" y="15"/>
                  </a:cubicBezTo>
                  <a:cubicBezTo>
                    <a:pt x="548" y="14"/>
                    <a:pt x="572" y="11"/>
                    <a:pt x="594" y="9"/>
                  </a:cubicBezTo>
                  <a:cubicBezTo>
                    <a:pt x="616" y="7"/>
                    <a:pt x="638" y="5"/>
                    <a:pt x="660" y="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459560" y="3290760"/>
              <a:ext cx="828360" cy="142920"/>
              <a:chOff x="7459560" y="3290760"/>
              <a:chExt cx="828360" cy="142920"/>
            </a:xfrm>
          </p:grpSpPr>
          <p:sp>
            <p:nvSpPr>
              <p:cNvPr id="109" name=""/>
              <p:cNvSpPr/>
              <p:nvPr/>
            </p:nvSpPr>
            <p:spPr>
              <a:xfrm>
                <a:off x="7511400" y="3290760"/>
                <a:ext cx="7282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59560" y="3348000"/>
                <a:ext cx="82836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934320" y="3333960"/>
              <a:ext cx="1891800" cy="2966760"/>
              <a:chOff x="6934320" y="3333960"/>
              <a:chExt cx="1891800" cy="2966760"/>
            </a:xfrm>
          </p:grpSpPr>
          <p:sp>
            <p:nvSpPr>
              <p:cNvPr id="112" name=""/>
              <p:cNvSpPr/>
              <p:nvPr/>
            </p:nvSpPr>
            <p:spPr>
              <a:xfrm>
                <a:off x="6934320" y="3333960"/>
                <a:ext cx="582480" cy="2962080"/>
              </a:xfrm>
              <a:custGeom>
                <a:avLst/>
                <a:gdLst/>
                <a:ahLst/>
                <a:rect l="l" t="t" r="r" b="b"/>
                <a:pathLst>
                  <a:path w="367" h="1866">
                    <a:moveTo>
                      <a:pt x="367" y="0"/>
                    </a:moveTo>
                    <a:cubicBezTo>
                      <a:pt x="335" y="29"/>
                      <a:pt x="304" y="59"/>
                      <a:pt x="277" y="90"/>
                    </a:cubicBezTo>
                    <a:cubicBezTo>
                      <a:pt x="250" y="121"/>
                      <a:pt x="224" y="153"/>
                      <a:pt x="202" y="186"/>
                    </a:cubicBezTo>
                    <a:cubicBezTo>
                      <a:pt x="180" y="219"/>
                      <a:pt x="164" y="248"/>
                      <a:pt x="145" y="288"/>
                    </a:cubicBezTo>
                    <a:cubicBezTo>
                      <a:pt x="126" y="328"/>
                      <a:pt x="102" y="378"/>
                      <a:pt x="85" y="423"/>
                    </a:cubicBezTo>
                    <a:cubicBezTo>
                      <a:pt x="68" y="468"/>
                      <a:pt x="57" y="510"/>
                      <a:pt x="46" y="561"/>
                    </a:cubicBezTo>
                    <a:cubicBezTo>
                      <a:pt x="35" y="612"/>
                      <a:pt x="22" y="685"/>
                      <a:pt x="16" y="732"/>
                    </a:cubicBezTo>
                    <a:cubicBezTo>
                      <a:pt x="10" y="779"/>
                      <a:pt x="9" y="796"/>
                      <a:pt x="7" y="843"/>
                    </a:cubicBezTo>
                    <a:cubicBezTo>
                      <a:pt x="5" y="890"/>
                      <a:pt x="2" y="966"/>
                      <a:pt x="1" y="1017"/>
                    </a:cubicBezTo>
                    <a:cubicBezTo>
                      <a:pt x="0" y="1068"/>
                      <a:pt x="0" y="1105"/>
                      <a:pt x="4" y="1149"/>
                    </a:cubicBezTo>
                    <a:cubicBezTo>
                      <a:pt x="8" y="1193"/>
                      <a:pt x="17" y="1237"/>
                      <a:pt x="25" y="1281"/>
                    </a:cubicBezTo>
                    <a:cubicBezTo>
                      <a:pt x="33" y="1325"/>
                      <a:pt x="43" y="1376"/>
                      <a:pt x="52" y="1416"/>
                    </a:cubicBezTo>
                    <a:cubicBezTo>
                      <a:pt x="61" y="1456"/>
                      <a:pt x="70" y="1484"/>
                      <a:pt x="82" y="1521"/>
                    </a:cubicBezTo>
                    <a:cubicBezTo>
                      <a:pt x="94" y="1558"/>
                      <a:pt x="110" y="1600"/>
                      <a:pt x="127" y="1638"/>
                    </a:cubicBezTo>
                    <a:cubicBezTo>
                      <a:pt x="144" y="1676"/>
                      <a:pt x="166" y="1718"/>
                      <a:pt x="184" y="1749"/>
                    </a:cubicBezTo>
                    <a:cubicBezTo>
                      <a:pt x="202" y="1780"/>
                      <a:pt x="222" y="1808"/>
                      <a:pt x="235" y="1827"/>
                    </a:cubicBezTo>
                    <a:cubicBezTo>
                      <a:pt x="248" y="1846"/>
                      <a:pt x="256" y="1856"/>
                      <a:pt x="265" y="186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8243640" y="3338640"/>
                <a:ext cx="582480" cy="2962080"/>
              </a:xfrm>
              <a:custGeom>
                <a:avLst/>
                <a:gdLst/>
                <a:ahLst/>
                <a:rect l="l" t="t" r="r" b="b"/>
                <a:pathLst>
                  <a:path w="367" h="1866">
                    <a:moveTo>
                      <a:pt x="367" y="0"/>
                    </a:moveTo>
                    <a:cubicBezTo>
                      <a:pt x="335" y="29"/>
                      <a:pt x="304" y="59"/>
                      <a:pt x="277" y="90"/>
                    </a:cubicBezTo>
                    <a:cubicBezTo>
                      <a:pt x="250" y="121"/>
                      <a:pt x="224" y="153"/>
                      <a:pt x="202" y="186"/>
                    </a:cubicBezTo>
                    <a:cubicBezTo>
                      <a:pt x="180" y="219"/>
                      <a:pt x="164" y="248"/>
                      <a:pt x="145" y="288"/>
                    </a:cubicBezTo>
                    <a:cubicBezTo>
                      <a:pt x="126" y="328"/>
                      <a:pt x="102" y="378"/>
                      <a:pt x="85" y="423"/>
                    </a:cubicBezTo>
                    <a:cubicBezTo>
                      <a:pt x="68" y="468"/>
                      <a:pt x="57" y="510"/>
                      <a:pt x="46" y="561"/>
                    </a:cubicBezTo>
                    <a:cubicBezTo>
                      <a:pt x="35" y="612"/>
                      <a:pt x="22" y="685"/>
                      <a:pt x="16" y="732"/>
                    </a:cubicBezTo>
                    <a:cubicBezTo>
                      <a:pt x="10" y="779"/>
                      <a:pt x="9" y="796"/>
                      <a:pt x="7" y="843"/>
                    </a:cubicBezTo>
                    <a:cubicBezTo>
                      <a:pt x="5" y="890"/>
                      <a:pt x="2" y="966"/>
                      <a:pt x="1" y="1017"/>
                    </a:cubicBezTo>
                    <a:cubicBezTo>
                      <a:pt x="0" y="1068"/>
                      <a:pt x="0" y="1105"/>
                      <a:pt x="4" y="1149"/>
                    </a:cubicBezTo>
                    <a:cubicBezTo>
                      <a:pt x="8" y="1193"/>
                      <a:pt x="17" y="1237"/>
                      <a:pt x="25" y="1281"/>
                    </a:cubicBezTo>
                    <a:cubicBezTo>
                      <a:pt x="33" y="1325"/>
                      <a:pt x="43" y="1376"/>
                      <a:pt x="52" y="1416"/>
                    </a:cubicBezTo>
                    <a:cubicBezTo>
                      <a:pt x="61" y="1456"/>
                      <a:pt x="70" y="1484"/>
                      <a:pt x="82" y="1521"/>
                    </a:cubicBezTo>
                    <a:cubicBezTo>
                      <a:pt x="94" y="1558"/>
                      <a:pt x="110" y="1600"/>
                      <a:pt x="127" y="1638"/>
                    </a:cubicBezTo>
                    <a:cubicBezTo>
                      <a:pt x="144" y="1676"/>
                      <a:pt x="166" y="1718"/>
                      <a:pt x="184" y="1749"/>
                    </a:cubicBezTo>
                    <a:cubicBezTo>
                      <a:pt x="202" y="1780"/>
                      <a:pt x="222" y="1808"/>
                      <a:pt x="235" y="1827"/>
                    </a:cubicBezTo>
                    <a:cubicBezTo>
                      <a:pt x="248" y="1846"/>
                      <a:pt x="256" y="1856"/>
                      <a:pt x="265" y="186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464240" y="3071880"/>
              <a:ext cx="828360" cy="142920"/>
              <a:chOff x="7464240" y="3071880"/>
              <a:chExt cx="828360" cy="142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516080" y="3071880"/>
                <a:ext cx="7282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464240" y="3129120"/>
                <a:ext cx="82836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516800" y="311940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45440" y="311940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00680" y="30574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7440" y="30513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7656480" y="2762280"/>
              <a:ext cx="432720" cy="142920"/>
              <a:chOff x="7656480" y="2762280"/>
              <a:chExt cx="432720" cy="142920"/>
            </a:xfrm>
          </p:grpSpPr>
          <p:sp>
            <p:nvSpPr>
              <p:cNvPr id="122" name=""/>
              <p:cNvSpPr/>
              <p:nvPr/>
            </p:nvSpPr>
            <p:spPr>
              <a:xfrm>
                <a:off x="7683480" y="2762280"/>
                <a:ext cx="3805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56480" y="2819520"/>
                <a:ext cx="43272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7661160" y="2782800"/>
              <a:ext cx="169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067600" y="2784600"/>
              <a:ext cx="187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83480" y="28051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1120" y="2801880"/>
              <a:ext cx="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715000" y="32767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9720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us qu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thing wrong with wanting to improve upon th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people who accuse you of being foolish or arrogant for trying to mak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: “Whenever there is a problem, there is an opportun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asonable man adapts himself to the world; the unreasonable one persists in trying to adapt the world to himself. Therefore, all progress depends on the unreasonable man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 to take the following as compl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ing unreason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arrogant to think you can improve upon the status qu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19Z</dcterms:modified>
  <cp:revision>1131</cp:revision>
  <dc:subject/>
  <dc:title>The Status Quo is Flawed</dc:title>
</cp:coreProperties>
</file>