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64338" cy="9885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ial Entrepren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0EFF9E63-B961-4F61-95AC-3A3B983CD9F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6DE48071-E2D9-4A08-AD47-56D2E4E1D74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cial Entrepreneu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901960" y="66600"/>
            <a:ext cx="32846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ng-term fu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philanthropists and talent scout organiz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willing to provide start-up fu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lling to provide indefinite, on-going fu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eans that a social enterprise project mu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a way to become profitabl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he nature of many social enterprises makes this imposs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find a different source of on-going fu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no easy solution to the difficulty of finding on-going fun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nal chapter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ow to Change the World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es some issues that may help people find a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ext slide discusses one possibility (inspired by that chap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79480" y="66600"/>
            <a:ext cx="73771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e future possibility for on-going fu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hypothetical future socie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rics are used to measure the benefits of social enterprise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overnment uses some tax money to fund social enterprise projects that score well against the metr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ight work be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small social enterprise projects spend money more effectively than larger, more bureaucratic organizations. So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ey spent on, say, healthcare-related social enterprise projects may be a cost-effective way to reduce the burden on a large, inefficient national healthcar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, redirecti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ey from government-run projects (like healthcare) to complementary social enterprise projects ca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v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ey for the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90200" y="66600"/>
            <a:ext cx="75358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nding for minority and oppressed grou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slide provides some food for though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a minority or oppressed group create its own talent scout organiz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ct donations from other members of the communit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ot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people donating £10 or £100 each can result in many thousands being rai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ey  raised could be channelled to strategically important projec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ome support groups, some “let’s change the law” campaig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uccess stories can be fed back to people who donated mone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res them that their money was well sp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urages them to donate more money in the fu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people can donate skills instead of mone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ccountancy, legal, management, web-site design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6696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trepreneu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motivated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reat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ing money is usually a lesser moti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cial entrepreneu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n entrepreneur who wants to create something that will greatly benefit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“talent scout” organizations help philanthropists give start-up money to the best social entrepren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finding a source of on-going funding can be a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d for thoug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haps an oppressed or minority group could set up its own internal “talent scout” organ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41240" y="66600"/>
            <a:ext cx="2197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r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cial entrepreneu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e into use during the 1960s and 197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rm has grown in popularity, but many people are still unfamiliar with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hap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s the ter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cial entrepreneu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es some funding-related issues of concern to social entrepren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44320" y="66600"/>
            <a:ext cx="44132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an entrepreneur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trepreneu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es from Fren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s literal meaning is: a person who undertakes a t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adays, most people think an entrepreneur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erson who starts a business to make mon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, many entrepreneurs start a business so they can create a new product or serv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ir main motivation is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re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the product or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ing money from the creation is just a (useful) side ef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81360" y="66600"/>
            <a:ext cx="53035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a social entrepreneur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cial entrepreneu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n entrepreneur who wants to create something of great benefit to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social entrepreneurs work on projects that have no chance of making money. 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ephone helplines for people who are in troubl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epression, victims of rape, child abuse, and so 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ernative forms of education for people who do not have their needs met by state-funded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oup kitchen to feed homeless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-based health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h social entrepreneurs face a problem: they have to find funding to carry out their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67000" y="66600"/>
            <a:ext cx="43718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a philanthropist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hilanthropist is a person (or organization) who donates money to good causes (including social entrepreneu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’s assume a philanthropist wants to give up to £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lion to “good caus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hilanthropist faces a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tens of thousands of good causes b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ll of them are run by competent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ll of them use donations effectiv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time-consuming for the philanthropist to find the “best” good causes to receive his or her do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social entrepreneurs and philanthropists find each oth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352680" y="66600"/>
            <a:ext cx="24177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lent scou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alent scou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somebody who matches talented people with an organisation looking for such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record company uses talent scouts to find talented musicians who do not have a recording con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rofessional sports team uses talent scouts to find young talented sports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some vari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job recruitment agency matches job seekers with employ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ports agent matches a talented sportsperson with a company that wants to use such a person to promote their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a talent scout direct philanthropists to the best social entrepreneu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31840" y="66600"/>
            <a:ext cx="14079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hok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hoka (www.ashoka.org) is a talent scout organiz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obtains funding from philanthrop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gives that funding to the best social entrepreneurs it can f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also provides non-financial support, such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ing with other social entrepreneurs in related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 from professional accountancy and management consul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hoka was started in 1980 by Bill Drayt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named the organization after an ancient Indian empe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started with $50,000 donated by Bill Drayton and some of his fri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its reputation increased, it attracted donations from other philanthropists ($3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llion in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llowing book provides a great introduction to Ashok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ow to Change the World: Social Entrepreneurs and the Power of New Ide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by David Bornst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29880" y="66600"/>
            <a:ext cx="55818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ther talent scout organiz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find some other talent scout organiz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Wikipedia entry for “social entrepreneurship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using an Internet search en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organization has its own criteria for deciding which individuals or groups to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ommon selection criter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ject must aim not just to help people, but to bring about change in people’s l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ject must aim to bring about change at a national level rather than just at a loca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ocial entrepreneur has relevant skills and is willing to work for many years or decades on th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h criteria make projects attractive to philanthrop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8-12T16:59:13Z</dcterms:modified>
  <cp:revision>1234</cp:revision>
  <dc:subject/>
  <dc:title>Introduction</dc:title>
</cp:coreProperties>
</file>