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136D7A7-E845-432A-8B1C-C41901B5E8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5AF418B-5953-4B9C-B83F-4D607F1810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9800" y="66600"/>
            <a:ext cx="2198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ck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wondered if good luck could be ta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veloped an experiment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filled out a questionnaire to determine their current level of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ave them advice and exercises that might improve thei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th later, 80% of the people reported that their luck had improv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discusses several exercises to increase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524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opular quotes support aspec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wn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rder I work, the luckier I g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deas can be found in several reli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: “The Lord helps those who help themsel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: “If you take one step towards Allah, He will take two steps towards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closely associated with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be successful in changing the world then you should be interested in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’s research indic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 is largely determined by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your luck by changing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provided a quick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5520" y="66600"/>
            <a:ext cx="2871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(www.RichardWiseman.co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professor of psychology at the University of Hertfordshir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research into deception, humor, the paranormal and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dered if there was a psychological basis for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used experiments, questionnaires and interviews to fin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ublished the results in the bestseller boo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scover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and unlucky people have different behavior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ange these then you can increase you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often associated with success, 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an become luckier then you are more likely to be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7600" y="66600"/>
            <a:ext cx="83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1: maximize your chance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and interact with mor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strangers at bus stops, while waiting in line or at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open” (friendly, inviting) body language and smile to attrac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maintain a long-lasting network of friends and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stay relax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tice more chance opportunities if you are relaxed instead of anx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pen to new experi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or random experiences can expose you to mor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new food, vary your route to work or your method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you go on holiday, go to a differen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new people, or talk about different topics to people you already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6320" y="66600"/>
            <a:ext cx="716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 showed that lucky people are more likely to listen to their intuition in 4 parts of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ers, personal relationships, business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man had a history of relationships that turned out to be ab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ime she started such a relationship, her intuition told her the man was not good f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he ignored her intuition ea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 lead a salesman to put great effort into getting information for a potential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colleagues thought it was a foolish waste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year, he had a £140,000 of business from this new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4680" y="66600"/>
            <a:ext cx="834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employ techniques to boost their intu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ditate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ind a quiet place to relax and clear their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op working on a difficult problem for a while and return to it again after they have had a chance to think abou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1840" y="66600"/>
            <a:ext cx="433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3: be optim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m and pessimism can become self-fulfilling proph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optimistic about a goal then you may work harder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pessimistic about a goal then you may subconsciously sabotage your own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end to persevere when something is diffic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unlucky people give up sooner, thereby decreasing their chance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are optimistic about their interactions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ssume that other people are competent and appro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6600" y="66600"/>
            <a:ext cx="6091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negative thoughts makes you feel depressed and wastes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ucky people tend to focus on the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people tend to focus on th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can see the positive side of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body accidentally shot me in the arm? I’m lucky because I might have been kill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roke a leg and am housebound? This gives me a chance to read some books that I’ve been too busy to read previousl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hink that bad luck will work out for the best in the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in prison for committing a crime? Perhaps I should think of a different career pa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66600"/>
            <a:ext cx="727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learn from their mistakes or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ve been rejected by dates or potential employers. I need to find out what I have been doing wrong so I can fix it and succeed next 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0:43Z</dcterms:modified>
  <cp:revision>1118</cp:revision>
  <dc:subject/>
  <dc:title>The Luck Factor</dc:title>
</cp:coreProperties>
</file>