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5455B81-005B-4A7D-B106-C781F0E78F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6FE55AC-200B-4ABC-A747-AE6B4A64AF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66600"/>
            <a:ext cx="7716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“I am a success” identity can also be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courages a feeling of superiority over other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cause you to mistreat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when currently successful, you might be fearful of futur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more likely to try to look good by comparison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utting other peop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greeing with derogatory stereotypes of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also more likely to begrudge the success of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body being more successful than you can make you feel like a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wo students who have fixed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poor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no good, and can never be any good, at this. Therefore, there is no point in me even tr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becomes a self-fulfilling prophecy. Without studying, he will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as excellent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poor at mathematics have to study hard to improve. Mathematics comes naturally to be, so I don’t have to work a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must not put effort into studying mathematics because doing that would suggest 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tudy hard, and only people who are poor at mathematics need to study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best in the school at mathematics. I must not enter a national competition because if I lose then I would no longer be ‘the best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9040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’s fixed mindset can result i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will encounter a mathematical topic beyond his natur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is point, his refusal to study hard will stunt hi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ight cheat or lie to maintain his reputation for being “the best” at mathematic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one experiment, 40% of fixed-mindset students who viewed themselves as having high abilities lied about poor test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refusal to take part in competitions (due to fear of failure) limits his opportunities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a fixed mindset can cause you problems in education, regardless of your skil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392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 that people with a fixed mindset are more likely to try to look good by comparison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verified by the following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id poorly on a test were given the chance to look at the test papers of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growth mindset looked at tests of students who did much better to fin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fixed mindset looked at tests of students who did much worse, so they could feel better abou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22800" y="66600"/>
            <a:ext cx="243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f sabo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ith a growth mindset is comfortable admitting ignorance or limitations and seek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trast, a person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not like admitting ignorance or limitations for fear of people judging him 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ject offers of help (because that would be admitting a prob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concerned Chinese students attending an English-languag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ew students were not fluent in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growth mindset accepted the offer of a free English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fixed mindset rejected the of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did not want to admit to any de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y sabotaged their ow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2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a stereotype is closely related to a fixed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shows that people with a fixed mindset are more likely to believe derogatory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you can reduce prejudice indirec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 growth mindset to a population will have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effect of reducing prejudice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73160" y="66600"/>
            <a:ext cx="1523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ying comes from a fixed mindse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volves passing judgement on oth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 your own self-esteem (“I’m better than the victim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your social stand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thers may think you are cool, funny or powerful, or at least fear y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cope better if they have a 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reject the bully’s ju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k to end the bullying through peaceful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the bully’s judgement (“I am worthle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more likely to dream of violent rev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86000" y="66600"/>
            <a:ext cx="271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hool tackled bullying by teaching students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few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bullying decreased 9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teasing decreased 5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8720" y="66600"/>
            <a:ext cx="2020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in a leader or manager can caus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spend an organization’s money foolish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the organization is not a 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himself look good to the world is a high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xurious office, company car (or jet airplane)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humiliate subordinates who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try to sabotage the careers or projects of talented sub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y threaten his “I’m the best”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36840" y="66600"/>
            <a:ext cx="24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of fixed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y tales that end with two people falling in love and “they lived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“Mr. Right” or “Miss R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 means never having to say you’re sorry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famous quote from the book and 1970 mov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ve 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 is that when you meet the “right”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be a perfect match (without even try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ways get along perf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66600"/>
            <a:ext cx="797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with a fixed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 in relationships brings problems due to two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o work at the relationship, it wasn’t meant to b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you are likely to end the relationship when problems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are a sign of permanent personality flaw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likely to blame your partner when problems occur in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, you will grow to feel contempt for your partner’s personality f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2160" y="66600"/>
            <a:ext cx="585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owth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says everything, including relationships, can improve with continue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lived happily ever after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titud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worked (at the relationship)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vitally importan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ting each other’s expectations about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ing problems (instead of assuming they indicate character f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upport rather than judgeme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me home and find the house is messy because your partner is swamped with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your partner by clearing up rather than criticizing the m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ing of a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artner ends their relationship with you, your reaction depends on your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growth mindset, you will be hurt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ive your former partner for the hurt and wish the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learn from mistakes in the relationship so you can have better relationship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fixed mindset, you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this as your partner judging you to be unlov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seek revenge for this humil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to create a particular mindset i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85840" y="66600"/>
            <a:ext cx="4927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mindset in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fixed mindset by praising abilit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learned that so quickly; you’re so smar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a genius; you got an A without even stud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a great drawing. You’re going to be the next Picass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growth mindset by praising persistence in practice or study, and good strategie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id well on that test; you must have worked h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ut so much thought into that essay. It really makes me understand Shakespeare in a new wa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ssion you put into that piano piece gives me a real feeling of joy. How do you feel when you play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1440" y="66600"/>
            <a:ext cx="132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us” is commonly thought to mean a superior ability that co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full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. It is als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Edison offered a more accurate definition, which comes from a growth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ter chapter of slid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se of the Genius Labe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cusses geniu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uses dysfunctional behaviour that harms you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avoids such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learn and teach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ol S. Dw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mprove your ability to change the worl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dicating fixed-mindset thinking within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ing a growth mindset to people and organizations you work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S. Dwe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 professor of psychology at Stanford University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s research in several areas, including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early in her career wa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were given simple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experience success initi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were given harder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then experience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tactics would the children use to cope with fail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ctions of some children surprised 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me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njo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ikelihood of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a challenge”, “I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p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ould be informative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Carol S. Dweck developed a theory to explain this and other aspects of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y is very simple, but it has implications for many aspects of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, work, sports, relationship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explains the theory and some of its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details in the book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arol S. Dw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 simpl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7960" y="66600"/>
            <a:ext cx="555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wo mindsets: fixed and grow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tionary definition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ntal attitude that predetermines a person’s responses to an interpretation of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Dweck identified two important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atter what my skill level currently is, I can improve through continued prac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 not worry about making mistakes or failing because they provide opportunities for 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kill level is fixed; I am either good or bad at something and there is not much, if anything, I can do to change my skill lev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elf-esteem is based on whether I am better or worse 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6440" y="66600"/>
            <a:ext cx="360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scellaneous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growth mindset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fixed mindset can result in many types of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xt section contains some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have a mixture of both minds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you might have a growth mindset for learning foreign languages and a fixed mindset for mathematics o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mindset can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aware of the concept of mindsets can help you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an be taught to have a particular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you are treated by others can influence which mindset you ha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has implications for parents, teachers, coaches and mana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Dysfunctional behaviour arising from a fixed min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66600"/>
            <a:ext cx="652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n transform an action into a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I am a failure” identity can be bad for your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make a mis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sink into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you might make excuses or assign blam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nying responsibility, you deny yourself the opportunity to learn from mistakes o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ming others unfairly is a form of verbal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600200"/>
          <a:ext cx="3809880" cy="838080"/>
        </p:xfrm>
        <a:graphic>
          <a:graphicData uri="http://schemas.openxmlformats.org/drawingml/2006/table">
            <a:tbl>
              <a:tblPr/>
              <a:tblGrid>
                <a:gridCol w="1752480"/>
                <a:gridCol w="20574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ucceed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succ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ail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8380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4:33Z</dcterms:modified>
  <cp:revision>1148</cp:revision>
  <dc:subject/>
  <dc:title>The Learning Mindset</dc:title>
</cp:coreProperties>
</file>