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0385C57-A175-40C8-9459-44B35A3489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1BCCDB1-475E-4042-9DD7-8624CA0A1F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1800" y="6660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flo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ay have the following experience occasio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focus your attention on an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involvement with the activity becomes deep but it seems effort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come unaware of your surroundings or the passing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experience is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referred to as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the gro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the z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flow has ended, you usually feel very happy and self-conf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haly Csikszentmihalyi is a psycholog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ondered “When are people happ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searching that question, he discovered the concept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low: The Psychology of Optimal Experi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lains flow and explains why it is relevant to people who want to chang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31840" y="66600"/>
            <a:ext cx="684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wareness of surroundings during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ing flow, people are often unaware of their surrou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experimental evidence to support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the cerebral cortex is associated with s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s had activity in their cerebral cortex measured before and during an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 involved individuals paying attention to flashes of light or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people who reported they rarely entered states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cre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people who reported they often entered states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: while in flow, your brain processes only inputs relevant to the task a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9000" y="66600"/>
            <a:ext cx="6942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ow provides opportunities for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enter a state of flow when your skills are just good enough for the challenge of the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skills improve, you must increase the challenge to remain i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flow provides opportunities for learning and improv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state of flow has ended, you feel hap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your skills or knowledge hav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7520" y="604440"/>
            <a:ext cx="6321240" cy="3061440"/>
            <a:chOff x="1217520" y="604440"/>
            <a:chExt cx="6321240" cy="3061440"/>
          </a:xfrm>
        </p:grpSpPr>
        <p:sp>
          <p:nvSpPr>
            <p:cNvPr id="94" name=""/>
            <p:cNvSpPr/>
            <p:nvPr/>
          </p:nvSpPr>
          <p:spPr>
            <a:xfrm>
              <a:off x="1598400" y="762120"/>
              <a:ext cx="5791320" cy="25146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247600">
              <a:off x="1281960" y="1815840"/>
              <a:ext cx="6413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8400" y="76212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8400" y="3276720"/>
              <a:ext cx="579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4720" y="3353040"/>
              <a:ext cx="5715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ki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154800" y="1824480"/>
              <a:ext cx="2438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lle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244600">
              <a:off x="1425240" y="1941480"/>
              <a:ext cx="5927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llenge is suitable for skill level </a:t>
              </a:r>
              <a:r>
                <a:rPr b="0" lang="en-GB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3720" y="2286000"/>
              <a:ext cx="2057400" cy="8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allenge is too easy for skill level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bored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50680" y="1067040"/>
              <a:ext cx="2057400" cy="8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allenge is too hard for skill level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anx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800" y="66600"/>
            <a:ext cx="785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ing a state of flow for different activiti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experience flow for a particular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activity varies from one person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playing chess, painting, mountain climbing, swimming, reading, gardening, writing, composing music, playing a spor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invent games to enter a state of flow during bor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can turn a boring situation into an interest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man, had a repetitive boring job on a factory assembly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ask performed on each unit was supposed to take 43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et himself the challenge of doing it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a five-year period, he reduced his time to 28 seconds pe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240" y="66600"/>
            <a:ext cx="894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ing a state of flow for different activitie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ass time in boring meetings, a man composed complex sequences of finger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invent games to enter a state of flow during times of st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can turn a stressful situation into an invigorating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from former priso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y chess against yourself in your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e and memorise p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 imaginary conversations in a foreig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Hungarian prison, inmates kept themselves occupied for over a year by secretly running poetry translation compe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600"/>
            <a:ext cx="490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ow and the meaning of l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haly Csikszentmihalyi claims that flow can help you to find the meaning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logic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meaning of li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whatever provides you with meaning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you find meaning in li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frequently doing an activity that puts you in a state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17560" y="66600"/>
            <a:ext cx="5680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to changing the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s why flow is relevant to people who want to change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the world takes a lot of time and eff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not have the required endurance if there is a lot of anxiety or bor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r effort frequently puts you in a state of flow then you will find it to be deeply satis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uggests two useful pieces of 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work of changing the world should be based on flow-indu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is not feasible then invent mind games to help you enter a state of flow for boring or stressfu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03Z</dcterms:modified>
  <cp:revision>1121</cp:revision>
  <dc:subject/>
  <dc:title>Flow</dc:title>
</cp:coreProperties>
</file>