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43F4815-CC59-4A2E-AFE6-EF6F1DFB27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5D5AC5D-65E8-4FC5-A92F-4BB44FAA3B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240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somebody you dis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s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omebody you know personally or somebo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ry to think of something you like or admire about tha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oing so makes you feel uncomfortable then that is an example of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240" y="66600"/>
            <a:ext cx="86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dissonance can caus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have a strong opinion about Fred’s pers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e is very charming (good) or obnoxious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ight assume that Fred is equally “good” or “bad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re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ard-working (good) or lazy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onest (good) or dishonest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, we can maintain a polarized opin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arming, hard-working and honest)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b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noxious, lazy and dishon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suggests that we may ignore any evidence that contradicts our belief about 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to recognize both good and bad in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at could result in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38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other people perceive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and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ffect how you view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affect how other people view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do not have a strong opinion abou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 few people do have a strong and very polarized opinion of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m think you are totally 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unfortunately, some others think you are a total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21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your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happens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lleagues think you are a total jerk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a great idea for improving business (or changing the worl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produce cognitive dissonance in the minds of your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ind it difficult to like your idea while simultaneously disli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will probably result, and they will ignore or ridicule your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areer will g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ch be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 not give people reasons to think you are a jerk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in an argument in a way that makes people think you are a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4880" y="66600"/>
            <a:ext cx="46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ing personal in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try to bring about change often face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xpect criticisms of thei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lso receive personal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is an activist for “free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riticise his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ose people also criticise his personality an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can explain why thi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fficult to dislike one aspect of a person while liking another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you dislike (or like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arguing that a person has a character fault is subconsciously thought of as being equivalent to arguing against that person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cause of confirmation b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remove dissonance by ignoring one of the conflicting 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us to have polarized views of peo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erson is “totally good” or “totally ba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agues who think you are a “total jerk” will ignore your grea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may attack you personally instead of attacking you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59Z</dcterms:modified>
  <cp:revision>1169</cp:revision>
  <dc:subject/>
  <dc:title>Confirmation Bias</dc:title>
</cp:coreProperties>
</file>