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a Weakness into a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699D7B6-693E-4EBC-8655-C8984B7C58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72E87C3-BA76-4307-A36D-D1662F86DD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rn a Weakness into a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01600" y="66600"/>
            <a:ext cx="328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r Arthur Pea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Arthur Pea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ily Expr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spaper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dually lost his eyesight due to the disease Glau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orld War One sta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hur heard about a soldier who had been blinded in b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d that many other soldiers would also be bli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efault, most of them would lead “hopeless and useless li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hur founded a hospital, St Dunstan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hospital, soldiers could “learn to be bl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blind himself, Arthur was able to inspire and teach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 weakness of some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lack of skill, social etiquette or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eakness does not have to hold you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it is possible to turn a weakness into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 weakness of some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lack of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you do with a weakness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ould use it as an excuse to not try to succeed.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ould find a way to turn the weakness into a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provides some examples of people who turned a weakness into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2520" y="66600"/>
            <a:ext cx="2237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mie O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a celebrity chef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uffers from dysl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could he turn that disability into a bene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th dyslexia find ways to express themselves that do not involve reading or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rough art or physic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uses a lot of body movement when communic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kes him work well in front of a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act, this helped him get his initial contract to be a TV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V chef needs to write recipe 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ie dictates his recipe books (9 so far) into a tape recorder and gets somebody else to typ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ctation is probably a faster way to write than typing or pen-and-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1160" y="66600"/>
            <a:ext cx="2397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ce Jen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uce Jenner won a gold medal in the 1976 Olympics in the decath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dysl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Bruce, the difficulty of reading taught him to work hard to achiev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wasn’t dyslexic, I probably wouldn’t have won the Games. If I had been a better reader then that would have come easily, sports would have come easily… and I never would have realized that the way you get ahead in life is hard work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17920" y="66600"/>
            <a:ext cx="2038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hieved fame as the lead sing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oomtown R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-authored the Band-Aid singl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They Know It’s Christma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elped organize Live Aid (and, 20 years later, Live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’s weakness is that he is tactless and often says the wrong t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held back the care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oomtown R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was able to turn this drawback into a benef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d him to say things to world leaders that other people were too timid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62160" y="66600"/>
            <a:ext cx="3027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growing up, Richard Stallman was a social out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to a combination of poor social skills, a lack of interest in popular culture, his high intelligence and geek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turned this into a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a social outcast meant that he grew used to rejection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fear yet more rejection when he started to develop fre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81040" y="66600"/>
            <a:ext cx="2514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ita Roddi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ta Roddick found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Body 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weakness was very limited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she could not afford “proper” packaging bottles for shamp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apest bottles she could find were urine sample bo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asked customers to bring back empty bottles for ref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ept of cheap, reusable packaging became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fit in with ideas of environment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65320" y="66600"/>
            <a:ext cx="1346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’s weakness was a fear of public spe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reatly hindered his social life and his career as a lawyer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turned his weakness into a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hought carefully about what he wanted to say before he opened hi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earned to communicate concis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arely said things that he later regre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Gandhi overcame his fear of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he continued to think carefully before sp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9:22Z</dcterms:modified>
  <cp:revision>1120</cp:revision>
  <dc:subject/>
  <dc:title>Turn a Weakness into a Strength</dc:title>
</cp:coreProperties>
</file>