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F51170D-9787-47DA-BFCB-E6FFEB582B2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77974BA-BD0D-43E2-9BA5-2C6993528E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66600"/>
            <a:ext cx="6334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evance of home schooling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critics of the regular school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believe schools teach a lot tha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el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 they believe schools teach a lot tha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armfu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art of this harm involves destroying entrepreneurial spir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spaper articles about a business tycoon might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chieved his great succe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spi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ving school at the age of 1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haps the newspaper article should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chieved his great succe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left school at the age of 1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think “I’m not educated enough to change the worl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don’t need a Ph.D. or MBA, or even a high school dipl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17560" y="66600"/>
            <a:ext cx="569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ibliography for home schoo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tailed discussion of home schooling is outside the scope of this training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interested in this topic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by reading personal accounts of home-schooling famili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ee Range Edu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ited by Terri Dow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eenage Liberation Hand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Grace Llewelly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 L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ited by Grace Llewelly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theory and history of home schooling, read books by John Hol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John Taylor Ga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long learning is common to many successful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biographies explicitly mention lifelong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all learners are leaders, but the research clearly shows that the strongest leaders are continuous learners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Jim Cle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long learning doe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to involve formal edu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 it is done by reading a wide range of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by trying new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tate of flow helps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me-schooling books are interest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ven i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disagree with much of what they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ir critiques of regular schooling can be insigh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uggest effective ways to learn without the expense of scho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can help you to increase your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7120" y="66600"/>
            <a:ext cx="6053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importance of lifelong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graphies of people who have changed the world indicate that they never stopped lear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learned partly because they enjoye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, things they learned provided inspiration for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imes, they got cross-fertilization of ideas from different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ote (and articl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5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all learners are leaders, but the research clearly shows that the strongest leaders are continuous learners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Jim Clemmer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jimclemmer.com/leadership-and-learning-are-indispensable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ant to change the world then increase your chances by continually learning throughout you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Practical issues for lifelo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01440" y="66600"/>
            <a:ext cx="5519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ques for lifelong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long learning can take different fo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eople read books in their spar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seek out new exper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all from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low experience provides a challenge so it promotes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many successful people, continual learning rarely involves formal edu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ographies indicate many successful people actually dislike formal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16000" y="66600"/>
            <a:ext cx="3267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arning par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aware of “learning paralysi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nding years to learn something “properly” before you start do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reality, there are two ways to lea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st do it. The practice will make you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st do it, and complement this with reading about the su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ing about a subject is rarely sufficient by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rigin of learning paralysis might be in the school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hools use book reading and lectures as the primary learning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ing through practice is much less common in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ant to change the world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st do it. The practice will make you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lement the “doing” with learning, but don’t postpone the “do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Home schoo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41440" y="66600"/>
            <a:ext cx="4430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is home school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ome school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learning at home instead of in a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amily might choose home schooling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mily travels constantly (perhaps in a circus) so children cannot be enrolled in a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ir children struggle academically in school or are bul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ir children learn best in their own time and at their own 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ular school is best or is the only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me schooling is an inferior substitute, to be used only if attending a regular school is im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a growing number of people thi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ular school is actively harmful t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me schooling is pref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59120" y="66600"/>
            <a:ext cx="5146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evance of home schoo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me schooling is relevant to this course in several way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lack the confidence to try to change the world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attending regular schools destroyed your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books about home schooling offer good critiques of what problems exist in regular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gain a “It’s not just me” or “It’s not my fault” insight that can restore your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haps you suffer from learning par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s about home schooling explain wh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hing can be a better way to learn than jus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ading abou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gain the confidence to do things imperfectly now rather than wait until you are an expert before you start to do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35:12Z</dcterms:modified>
  <cp:revision>1125</cp:revision>
  <dc:subject/>
  <dc:title>Lifelong Learning</dc:title>
</cp:coreProperties>
</file>