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stereotypical Skills for Activ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435FA49-D61E-40DF-8DB8-CE37D1B1F57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F92DFB4C-94F5-4D2F-8520-1EF9E815CA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on-stereotypical Skills for Activis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feel constrained by stereotypical forms of activ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ways to help the world by doing things that you like 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63360" y="66600"/>
            <a:ext cx="5403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ereotypical forms of activ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 activism invol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ving a placard and shouting angry slogans in a protest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buting flyers to th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ing part in endless committe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ing for hours with a collection bucket to raise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ing letters to polit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should do those thing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nly i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ppeal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do things that you don’t enjoy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ill find them tedious and frust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ill quickly give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ever activism you do should be enjoyable and re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you will look forward to do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you won’t get stressed or burn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65200" y="66600"/>
            <a:ext cx="6176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n-stereotypical forms of activ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n’t limit yourself to stereotypical forms of activ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focus on your innate skills or activities you find pleasu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ways to use them in activ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you good at teaching or explaining thing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lot of activism involves educating the public. Could you do t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have good writing skil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, could you write leaflets, articles or books about an activist ca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enjoy photograp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, think of ways these skills might be useful to an activi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you good at decora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you help redecorate the headquarters of an activist grou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56800" y="66600"/>
            <a:ext cx="7364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n-stereotypical forms of activism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you good at cook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you cook lunch when an activist group has an all-day mee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have dreams of being a film direct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, could you make a documentary relevant to an activist ca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like garde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you brighten up the activist headquarters with flow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you grow a particular type of flower in large quant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ell in a fund-raising ev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use in a dramatic way at an activist ev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24240" y="66600"/>
            <a:ext cx="4255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Ciaran McHa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aran’s skill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standing complex issues and re-explaining them more sim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ing training courses (mainly about computer technolog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se skills are not stereotypical activist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aran used those skill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ad a lot about people who have changed the worl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ctivists, entrepreneurs, inventors, and so 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noticed they shared many skills and faced similar obsta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rote this training course to explain those skills and obsta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made the training course available on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aran wants to help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acquire skills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aran wants to do this on a massiv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1760" y="66600"/>
            <a:ext cx="4708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Richard Stallm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ails are given in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wo Kinds of Pow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of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 Stallman felt proprietary software was immo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did not have “power over people” to force companies to make their software non-propri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alized he had “power to help people” by writing his own non-proprietary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’s non-stereotypical activist skill was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sked myself: what could I, an operating-system developer, do to improve the situation? It wasn’t until I examined the question for a while that I realized that an operating-system developer was exactly what was needed to solve the proble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35120" y="66600"/>
            <a:ext cx="4019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Joanna Ru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anna Russ’ skill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ing an author (mainly science fi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eep knowledge of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was frustrated that literature written by women is often dismissed as being inferior to literature written by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research, she identified several historical ways women’s writing had been supp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documented this i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w to Suppress Women’s Wri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0560" y="66600"/>
            <a:ext cx="287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 quo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qu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ask yourself what the world needs. Ask yourself what makes you come alive, and then go do that. Because what the world needs is people who have come aliv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ard Thurman (189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1), American author, philosopher, theologian, educator and civil right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work is to discover your work and then with all your heart to give yourself to i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d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sing sometimes for the war that I f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Cause every tool is a weap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old it righ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 diFranco in her so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 I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31T16:35:51Z</dcterms:modified>
  <cp:revision>1118</cp:revision>
  <dc:subject/>
  <dc:title>Non-stereotypical Skills for Activism</dc:title>
</cp:coreProperties>
</file>