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chorCtr="1">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hallenging Hidden Assumptions in Loaded Question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CE9F5034-8A5B-45F1-8BA3-5326C40CD8D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851568DB-1C5E-4F88-B737-E433FE3B49C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hallenging Hidden Assumptions</a:t>
            </a:r>
            <a:br>
              <a:rPr sz="3600"/>
            </a:br>
            <a:r>
              <a:rPr b="1" lang="en-GB" sz="3600" spc="-1" strike="noStrike">
                <a:solidFill>
                  <a:srgbClr val="000000"/>
                </a:solidFill>
                <a:latin typeface="Arial"/>
              </a:rPr>
              <a:t>in Loaded Question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Homosexuality is not normal (or na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4680" y="66600"/>
            <a:ext cx="731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normal (or natural)”</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orm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ypical,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atur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urs in nature (which means that it is typical or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next few slid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 some common approaches to tackling this loaded clai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n discuss an assumption hidden in the cl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36600" y="66600"/>
            <a:ext cx="8486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common or part of nature”</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not common and does not occur in natu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se an Internet search engine for “homosexuality anim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e useful reference: http://www.news-medical.net/?id=20718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of search:</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mosexuality has been observed in over 1500 spe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cluding hum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25440" y="66600"/>
            <a:ext cx="488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immoral”</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immora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morality is defined in terms of religious beliefs,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the Bible (or equivalent book for another religion) fo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utral or positive references to homo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aboos that are widely ignored tod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gue that such contradictions enable us to ignore Bible-based homophobia with a clear consci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30320" y="66600"/>
            <a:ext cx="3423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idden assump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assumption in “homosexuality is not norm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sumption is that something else (heterosexuality) is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assumption can be challenged with a counter-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don’t believe anyone is normal. Everyone is a perve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two parts to this counter-clai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1 (challenging “normal = typic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enormous variety in sexual practices of (even) heterosexua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one sexual position or act is dominant enough to be “typ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2 (challenging “normal = mor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ligions condemn many sexual acts that (even) heterosexuals commonly emplo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fore, most heterosexuals are just as immoral as homosexu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8240" y="66600"/>
            <a:ext cx="757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hould hidden assumptions be challenged?</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urpose of the previous sli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a:t>
            </a:r>
            <a:r>
              <a:rPr b="0" i="1" lang="en-GB" sz="2000" spc="-1" strike="noStrike">
                <a:solidFill>
                  <a:srgbClr val="000000"/>
                </a:solidFill>
                <a:latin typeface="Arial"/>
              </a:rPr>
              <a:t>not </a:t>
            </a:r>
            <a:r>
              <a:rPr b="0" lang="en-GB" sz="2000" spc="-1" strike="noStrike">
                <a:solidFill>
                  <a:srgbClr val="000000"/>
                </a:solidFill>
                <a:latin typeface="Arial"/>
              </a:rPr>
              <a:t>to force you to argue that “everyone is a pervert” rather than “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is to make you aware of more </a:t>
            </a:r>
            <a:r>
              <a:rPr b="0" i="1" lang="en-GB" sz="2000" spc="-1" strike="noStrike">
                <a:solidFill>
                  <a:srgbClr val="000000"/>
                </a:solidFill>
                <a:latin typeface="Arial"/>
              </a:rPr>
              <a:t>options </a:t>
            </a:r>
            <a:r>
              <a:rPr b="0" lang="en-GB" sz="2000" spc="-1" strike="noStrike">
                <a:solidFill>
                  <a:srgbClr val="000000"/>
                </a:solidFill>
                <a:latin typeface="Arial"/>
              </a:rPr>
              <a:t>you have in argu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ote: if 2 things are “equally good” then they are “equally ba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the following seem like opposites, but are simil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Everyone (heterosexual and homosexual) is a perve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Implicit compar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25560" y="66600"/>
            <a:ext cx="3679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licit comparisons</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claims (“X” denotes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ll of these claims contain implicit comparis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not norm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s</a:t>
            </a:r>
            <a:r>
              <a:rPr b="0" lang="en-GB" sz="2000" spc="-1" strike="noStrike">
                <a:solidFill>
                  <a:srgbClr val="000000"/>
                </a:solidFill>
                <a:latin typeface="Arial"/>
              </a:rPr>
              <a:t>, homosexuals are likely to be rapists</a:t>
            </a:r>
            <a:br>
              <a:rPr sz="2000"/>
            </a:br>
            <a:r>
              <a:rPr b="0" lang="en-GB" sz="2000" spc="-1" strike="noStrike">
                <a:solidFill>
                  <a:srgbClr val="000000"/>
                </a:solidFill>
                <a:latin typeface="Arial"/>
              </a:rPr>
              <a:t>(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are rapists, murderers, …”</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53840" y="66600"/>
            <a:ext cx="5815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hallenging implicit comparisons</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can be useful to challenge the implicit comparis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ld heterosexuality be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heterosexuality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sex-related crimes per 1000 heterosexuals is lower than sex-related crimes per 1000 homosexual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non-X people have lower crime r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erhaps non-X people commit lots of crimes that are socially acceptable and hence go unrecognised. Examples:</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b and housing discrimination against X people</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arassment, exploitation, rape, murder, genocide of X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crimes by non-X people are viewed differently than similar crimes committed by X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3880" y="66600"/>
            <a:ext cx="718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ckground information about Malcolm X</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s original surname was Little. He grew up po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came a crimin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obbery, selling drugs, illegal gambling, “steering” (escorting white clients to brothels in black ghetto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pent 8 years in prison. Converted to Islam while in jai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nged his surname to X to reject the name of slave own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released from pris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became a minister in the Nation of Islam and helped increase membership from 400 to 40,000</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was a black-rights activist in the 1950s and 1960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rote “The Autobiography of Malcolm X” before being assass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6320" y="66600"/>
            <a:ext cx="6429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have low moral standards”</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t confuse the “X” placeholder with Malcolm X</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7 (“Hustler”)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steering” job and conversations with prostitute friends enabled him to compare the (lack of) moral standards of whites and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robably a better-informed comparison than that of many “respectabl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conclusion: “The hypocritical white man will talk about the Negro’s ‘low morals’. But who has the world’s lowest morals if not wh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84200" y="66600"/>
            <a:ext cx="636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are rapists, murderers, …”</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non-X people conveniently overlook the large-scale crimes that their government commits on their behalf</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11 (“Saved”)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 read lots of books in the prison libra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And I read the histories of various nations, which opened my eyes gradually then wider and wider, to how the whole world’s white men had indeed acted like devils, pillaging and raping and bleeding and draining the whole world’s non-white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4400" y="66600"/>
            <a:ext cx="312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non-X people use a double standard when commenting on similar crimes committed by X and non-X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hapter 18 (“El-Hajj Malik El-Shabazz”)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New York white youth were killing victims; that was a ‘sociological’ problem. But when black youth killed somebody, the power structure was looking to hang somebody.</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When whites had rifles in their homes, the Constitution gave them the right to protect their home and themselves. But when black people even spoke of having rifles in their homes, that was ‘ominou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73480" y="66600"/>
            <a:ext cx="431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 (cont’)</a:t>
            </a:r>
            <a:endParaRPr b="1" lang="en-US" sz="2800" spc="-1" strike="noStrike">
              <a:solidFill>
                <a:srgbClr val="000000"/>
              </a:solidFill>
              <a:latin typeface="Arial"/>
            </a:endParaRPr>
          </a:p>
        </p:txBody>
      </p:sp>
      <p:sp>
        <p:nvSpPr>
          <p:cNvPr id="13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July 2007, some Muslim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lanted two car bombs outside London nightclub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ashed a car into Glasgow airpo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se events were widely reported in the English medi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there was significantly less reports of the 25+ retaliation attacks in the following weeks</a:t>
            </a:r>
            <a:br>
              <a:rPr sz="2000"/>
            </a:br>
            <a:r>
              <a:rPr b="0" lang="en-US" sz="2000" spc="-1" strike="noStrike">
                <a:solidFill>
                  <a:srgbClr val="000000"/>
                </a:solidFill>
                <a:latin typeface="Arial"/>
              </a:rPr>
              <a:t>(including a car bomb, a petrol bomb, and a near-fatal stabb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 of Google search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75,500 resul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revenge”: 882 result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 and 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04840" y="66600"/>
            <a:ext cx="5104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and further reading</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 with hidden assump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Homosexuality is just a phase” assumes that a phase is ba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ssumption is that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counter such claims by challenging the hidden assumptions/comparison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ommended b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entle Art of Verbal Self Defense” by Suzette Haden Elg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was the first in a seri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itles in the series tailor the message for different audiences.</a:t>
            </a:r>
            <a:br>
              <a:rPr sz="2000"/>
            </a:br>
            <a:r>
              <a:rPr b="0" lang="en-GB" sz="2000" spc="-1" strike="noStrike">
                <a:solidFill>
                  <a:srgbClr val="000000"/>
                </a:solidFill>
                <a:latin typeface="Arial"/>
              </a:rPr>
              <a:t>Examples: at work, communicating with childr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59200" y="66600"/>
            <a:ext cx="3168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questions</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ere is a famous example of a “loaded” (or “trick”) ques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ave you stopped beating your wif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makes two important assump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a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beaten her at so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invites a “yes” or “no” answ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ither of these answers is an admission that you are/were a wife b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tter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fuse to answer the question.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llenge the assumptions made in a loaded question or clai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91" name=""/>
          <p:cNvSpPr/>
          <p:nvPr/>
        </p:nvSpPr>
        <p:spPr>
          <a:xfrm>
            <a:off x="3809880" y="5791320"/>
            <a:ext cx="2819520" cy="3405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presentation</a:t>
            </a:r>
            <a:endParaRPr b="0" lang="en-US" sz="1800" spc="-1" strike="noStrike">
              <a:solidFill>
                <a:srgbClr val="000000"/>
              </a:solidFill>
              <a:latin typeface="Times New Roman"/>
            </a:endParaRPr>
          </a:p>
        </p:txBody>
      </p:sp>
      <p:sp>
        <p:nvSpPr>
          <p:cNvPr id="92" name=""/>
          <p:cNvSpPr/>
          <p:nvPr/>
        </p:nvSpPr>
        <p:spPr>
          <a:xfrm flipH="1" flipV="1">
            <a:off x="1981080" y="5257440"/>
            <a:ext cx="1828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71680" y="66600"/>
            <a:ext cx="2594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claim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homosexuality (or another aspect of sexua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racism (where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terror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et’s examine some of these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It’s just a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68200" y="66600"/>
            <a:ext cx="31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It’s just a phas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it’s </a:t>
            </a:r>
            <a:r>
              <a:rPr b="0" i="1" lang="en-GB" sz="2400" spc="-1" strike="noStrike">
                <a:solidFill>
                  <a:srgbClr val="000000"/>
                </a:solidFill>
                <a:latin typeface="Arial"/>
              </a:rPr>
              <a:t>not </a:t>
            </a:r>
            <a:r>
              <a:rPr b="0" lang="en-GB" sz="2400" spc="-1" strike="noStrike">
                <a:solidFill>
                  <a:srgbClr val="000000"/>
                </a:solidFill>
                <a:latin typeface="Arial"/>
              </a:rPr>
              <a:t>a phase. I’ve been like this for yea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nter-reply: “You will </a:t>
            </a:r>
            <a:r>
              <a:rPr b="0" i="1" lang="en-GB" sz="2000" spc="-1" strike="noStrike">
                <a:solidFill>
                  <a:srgbClr val="000000"/>
                </a:solidFill>
                <a:latin typeface="Arial"/>
              </a:rPr>
              <a:t>eventually </a:t>
            </a:r>
            <a:r>
              <a:rPr b="0" lang="en-GB" sz="2000" spc="-1" strike="noStrike">
                <a:solidFill>
                  <a:srgbClr val="000000"/>
                </a:solidFill>
                <a:latin typeface="Arial"/>
              </a:rPr>
              <a:t>grow out of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mplicit assumption in the 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d “just” is used in the claim to reduce import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assumption is that a phase is not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ctually, phases occur throughout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childhood, adolescence, (young) adult, middle age, old a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as your childhood unimportant “just” because it was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ength of a phase is not a measure of its importa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ildhood lasts more than a deca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errible twos” last (hopefully) only a few months but are an important part of a child’s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77760" y="66600"/>
            <a:ext cx="3544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s of phase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blo Picasso went through many phases (periods) in his a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lue period, rose period, African period, (various types of) cub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common for a musician or band to change musical sty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arly U2 is quite different to later U2. Same for the Beat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ink Floyd: psychedelic period, Dark Side of the Moon, later on Roger Waters wrote an oper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uring your life you probably had phases for lik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bbies: reading, art, model construction, danc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musicians or genres of music, authors or genr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genres of) movies, TV shows, actors, direc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kinds of s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food or drin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work, so you had a career change</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35080" y="66600"/>
            <a:ext cx="5029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Phases should be celebrated</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not right to dismiss something because it is “just” a pha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glish idiom: “variety is the spice of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ans that life is more interesting when you try different thing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hases in your life bring variety and so should be </a:t>
            </a:r>
            <a:r>
              <a:rPr b="0" i="1" lang="en-GB" sz="2400" spc="-1" strike="noStrike">
                <a:solidFill>
                  <a:srgbClr val="000000"/>
                </a:solidFill>
                <a:latin typeface="Arial"/>
              </a:rPr>
              <a:t>celebrated</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hypothetical convers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a:t>
            </a:r>
            <a:r>
              <a:rPr b="0" lang="en-GB" sz="2000" spc="-1" strike="noStrike">
                <a:solidFill>
                  <a:srgbClr val="000000"/>
                </a:solidFill>
                <a:latin typeface="Arial"/>
              </a:rPr>
              <a:t>	</a:t>
            </a:r>
            <a:r>
              <a:rPr b="0" lang="en-GB" sz="2000" spc="-1" strike="noStrike">
                <a:solidFill>
                  <a:srgbClr val="000000"/>
                </a:solidFill>
                <a:latin typeface="Arial"/>
              </a:rPr>
              <a:t>“Your homosexuality is just a phas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a:t>
            </a:r>
            <a:r>
              <a:rPr b="0" lang="en-GB" sz="2000" spc="-1" strike="noStrike">
                <a:solidFill>
                  <a:srgbClr val="000000"/>
                </a:solidFill>
                <a:latin typeface="Arial"/>
              </a:rPr>
              <a:t>	</a:t>
            </a:r>
            <a:r>
              <a:rPr b="0" lang="en-GB" sz="2000" spc="-1" strike="noStrike">
                <a:solidFill>
                  <a:srgbClr val="000000"/>
                </a:solidFill>
                <a:latin typeface="Arial"/>
              </a:rPr>
              <a:t>“Possibly. Of course, that means my heterosexuality was a phase too.</a:t>
            </a:r>
            <a:br>
              <a:rPr sz="2000"/>
            </a:br>
            <a:r>
              <a:rPr b="0" lang="en-GB" sz="2000" spc="-1" strike="noStrike">
                <a:solidFill>
                  <a:srgbClr val="000000"/>
                </a:solidFill>
                <a:latin typeface="Arial"/>
              </a:rPr>
              <a:t>	</a:t>
            </a:r>
            <a:r>
              <a:rPr b="0" lang="en-GB" sz="2000" spc="-1" strike="noStrike">
                <a:solidFill>
                  <a:srgbClr val="000000"/>
                </a:solidFill>
                <a:latin typeface="Arial"/>
              </a:rPr>
              <a:t>Do you think your heterosexuality is also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 is likely to feel baffled and possibly angry by the respon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 is </a:t>
            </a:r>
            <a:r>
              <a:rPr b="0" i="1" lang="en-GB" sz="2000" spc="-1" strike="noStrike">
                <a:solidFill>
                  <a:srgbClr val="000000"/>
                </a:solidFill>
                <a:latin typeface="Arial"/>
              </a:rPr>
              <a:t>not </a:t>
            </a:r>
            <a:r>
              <a:rPr b="0" lang="en-GB" sz="2000" spc="-1" strike="noStrike">
                <a:solidFill>
                  <a:srgbClr val="000000"/>
                </a:solidFill>
                <a:latin typeface="Arial"/>
              </a:rPr>
              <a:t>defending his/her 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Y is challenging core beliefs and assumptions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42:47Z</dcterms:modified>
  <cp:revision>1167</cp:revision>
  <dc:subject/>
  <dc:title>Challenging Hidden Assumptions in Loaded Questions</dc:title>
</cp:coreProperties>
</file>