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mpor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4813542-508D-4213-B837-8908F3477E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65881FF-3918-47C6-AB9A-C924CE707B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mportance of Non-core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jobs have an obvious “core”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 of such jobs: doctor, nurse, teacher, programmer, football player, musician, art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 “I can have a successful career if my core skill is better than most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an excellent core skill may be necessary but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have “good enough” non-core skill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why having poor non-core skills can hold back your career or activis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ways to improve your non-cor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1120" y="66600"/>
            <a:ext cx="5400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is a skilled programmer &amp; works at a softwa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would love to spend all his working time doing programm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p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ss than hal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time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his time is spent doing other task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roject planning, high-level design, writing progress reports, team meetings, meetings with people in other departments (sales, marketing, documentation), mentoring new colleagues, email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Fred has poor skills for those non-programming tasks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poor skills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lack of skills is likely to hold back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4160" y="66600"/>
            <a:ext cx="658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3 choices (2 of which are bad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become even more skilled at programming; this will compensate for my poor non-core skil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 remains with poor skills for the majority of his job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ot good for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behave rudely then maybe I won’t be invited to meetings or asked to mentor new employe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Cultivating a bad personality is unlikely to help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improve my non-core skills so they are ‘good enough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’s career impr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8840" y="66600"/>
            <a:ext cx="389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from a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v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 The Band Play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is about scientists in the 1980s who investigated a new disease (AIDS) as it spread through America and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character in the move is Dr. Don Franc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layed by Matthew Mod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. Don Franc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excellent medical research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has poor communication skil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e is sometimes tactless when communicating with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several occasions, things he says annoy people and they react by making his work h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5520" y="66600"/>
            <a:ext cx="627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improve your non-core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mprove non-core skills through formal education or train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schedule might clash with the education tim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is through self-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on various topics, such as, management, leadership, project planning, sales, marketing, how to organize meetings, customer service, public speaking, writing skil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your manager or colleagues to recommend such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“self-help” books provide useful advice, for example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Win Friends and Influence Peop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le Carn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e the techniques used by colleagues who have better non-core skills tha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0200" y="66600"/>
            <a:ext cx="704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business skills for activ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me many of the world’s problems on greedy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to reject anything associated with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many business skills are relevant to activis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 and leadership skills, so you can organize people to work together to achiev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 and sales skills, so you can communicate and “sell” your message to the general public in an effect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management skills, so you can be more productive in your activis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Lifelong Activi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Hillary Rettig is useful.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 importance of these skills for activ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imple, introductory lessons for some usefu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n excellent core skill but poo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non-core skills are likely to hold you back, both in a paying career and in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o find ways to improve you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tudy is probably a more affordable way than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8Z</dcterms:modified>
  <cp:revision>1125</cp:revision>
  <dc:subject/>
  <dc:title>Overlap of Business Skills and Activist Skills</dc:title>
</cp:coreProperties>
</file>