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se of the “Genius”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892B245-DAE0-4108-9458-F29457C8F0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B443182-3E0E-4D38-BF28-7C6CF5489F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urse of the “Genius” Lab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5240" y="66600"/>
            <a:ext cx="6249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with being called a geni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may develop unrealistic expectations of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hink “You’re a genius so you can do any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ually impossible to live up to their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n people become disappointed i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ne of these disappointed people is your manager then bonuses, pay rises and promotions may occur less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something developed by a genius must be compl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d have to be a genius to understand th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y won’t bother trying to understand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kes it difficult for you to promote the results of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blems mean “You are a genius” is more of a curse than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19040" y="66600"/>
            <a:ext cx="6553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realistic expectations of a “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ing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Isn’t Easy Being a Geniu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Jim Collins, New York Time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Septem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nytimes.com/2005/09/19/opinion/19collins.html?_r=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ef summ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 was called a genius by the US national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people developed unrealistic expectations of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mily, friends and strangers asked h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nvestment advice, questions on unusual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listen to theories they h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iends were frustrated he wasn’t better at playing Trivial Pur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young daughter was disappointed when he was no good at playing a children’s card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agues assumed his research papers were all accepted for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Advice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ish “genius” from your vocabulary because of ambigu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it mean a high IQ or natural 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does it mean inspiration plus hard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explicitly say what you mean.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very intellig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is a good bit of in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impressed with how hard you worked on th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03360" y="66600"/>
            <a:ext cx="247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t the label “genius” as a curse rather than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ject and fight this c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ght it through education (such as this pres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our can hel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d to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enius, but I’m retired now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’t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enius: I work only part-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ay I’m a genius? Thank you, and yes, I do work har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h jokes are likely to receive a puzzled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ives you an opportunity to educate people that “genius” refers to “hard work” rather than an innat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is widely misunderst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insic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ior ability you are bor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you reach a state of genius (superior ability) through lots of practice and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isunderstanding can cause problems. People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miss your claims of having worked hard because “you are a geni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unrealistic expectations of you that you cannot live 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your work because “only another genius could understand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pt the label “genius” as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s effects are like a curse that can hinder your career o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What is geni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4800" y="66600"/>
            <a:ext cx="7180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ommon misunderstanding of “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can be used to mean a superior 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genius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“he has a very high intellig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Jordan was a genius on the basketball cou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thing wrong with the above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“genius” is often used to mean a superior ability that com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urall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ther words, either you are born a genius or you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not born Superman, you will never be bullet proof, be able to fly or have X-ray vision, regardless of how much you prac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if you are not born with the relevant abiliti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never be as intelligent as Albert 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never play basketball as well as Michael 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mmonly held understanding of “genius” is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56120" y="66600"/>
            <a:ext cx="276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omas Ed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mas Edison was a famous American inven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inventions include the light bulb and the phono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widely regarded as a gen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ous quote from Thomas Ed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us is 1% inspiration and 99% per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points to note about this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ion anything about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orn wit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ior 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% and 99% figures are inaccurate plac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likely to be 1 unit of inspiration and 10,000+ units of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assume he was being modest. Perhaps he was making an ins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called a ‘genius’ because I work hard. You are no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ed that because you are laz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73360" y="66600"/>
            <a:ext cx="374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genius” of st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omas Edison’s quote accu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it valid only for him? Or does it hold for many other geniuses to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is often applied to the best people in a field, such as sports, music, art, movies, busines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re such people born already being “the best”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did they have to work very hard to become th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swer (at least f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uses) is: they worked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verify this by reading biographies of “the best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indse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Carol S. Dweck comes to the same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young prodigies usually work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5480" y="66600"/>
            <a:ext cx="4929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genius” of star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a sports gen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Jordan is regarded as the best basketball player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several basketball teams rejected him because he was not (yet) goo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skill was “mediocre” initially. Hard work made it “good”, “better”, “great” and eventually “geniu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d to continue working har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m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the “genius”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it seems Thomas Edison was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us = a small bit of inspiration plu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ips on finding inspiration, s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atus Quo is Flaw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of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ward de Bono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teral Think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Not?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Barry Nalebuff and Ian Ay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Why the “genius” label can be a c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08440" y="66600"/>
            <a:ext cx="3324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are a 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a genius” is normally intended as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somebody calls you a genius they probably 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ere born with a superior talent or I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’t have to work hard to achieve excell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ssumptions of you are likely to be incorr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rn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to work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ncorrect assumptions can cause you proble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43:17Z</dcterms:modified>
  <cp:revision>1280</cp:revision>
  <dc:subject/>
  <dc:title>Curse of the “Genius” Label</dc:title>
</cp:coreProperties>
</file>