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ism and Re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4CC3037-5BD9-489F-BFD4-299D09790C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D730260-8383-4478-9C46-B16E4E2A8A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riticism and Rej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6840" y="66600"/>
            <a:ext cx="6411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sumptions about your motiv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ll criticize you, not for what you hav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for what the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r mot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the lead singer of The Boomtown 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d many hits, but by 1984 they were no longer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d finished recording a new album and wanted to promot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was moved by a news report about famine in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he spent many months organizing Band Aid and Liv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eant The Boomtown Rats could not promote their new album effectively, and its chances of success slipped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assumed Bob Geldof organized Band Aid and Live Aid as a gimmick to promote his music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5080" y="66600"/>
            <a:ext cx="558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cuse first, ask questions l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ll make accusations based 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’t be bothered to ask questions to discover the fact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id Bailey is a famous photogra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leased a charity book entit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agine: A Book for Band 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s of this book raised £200,000 for Band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launch of the book, a journa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d he had travelled to Ethiopia first class at Band Aid’s ex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acked him for wasting money that could have been used for ch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act, David Bail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d travelled in the hold of a cargo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d all his own travel and living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ve his time and talent free of charge for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8604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ton’s third law of mo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very action there is an equal and opposite reac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ariation applies to people who try to bring abou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very action there is an equal and opposite criticis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y to bring about change then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riticisms may be justified, but much will be unjus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likely that the greater the change, the greater the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 magic shield to defend you from such criti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s always 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understanding that “criticism happens” helps to deflect some of the 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y to bring about significant change then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ized unjus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reasons for unjust criticisms have been discussed in earlier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izes the reasons for unjust criticisms given in earlier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s some forms used for unjust critic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useful to be forewarned that you will face unjust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ing that other people have faced similar, unjust criticisms takes some of the sting out of the critic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view the existence of unjust criticisms as a sign that you are making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cap of reasons for unjust critic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9400" y="66600"/>
            <a:ext cx="5739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Status Quo is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quote was used in the chapt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asonable man adapts himself to the world; the unreasonable one persists in trying to adapt the world to himself. Therefore, all progress depends on the unreasonable man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quote is relev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are viewed as being unreasonable are critic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people who bring about progress are critic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criticisms you will fac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was a good idea then somebody else would have thought of it already.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r idea is stu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ystem was designed by experts. Apparently you think you know better than the experts.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 are arro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30160" y="66600"/>
            <a:ext cx="5640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Innovator’s Dile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zations serving an established, mainstream market sometimes reject inno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jected innovation might succeed in a smaller,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in the niche market enables the innovation to m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tured innovation might then succeed in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itial rejection often comes with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believe in your innovation then do not take the criticisms to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look for a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4360" y="66600"/>
            <a:ext cx="520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irmation bias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form an opinion based on first im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they ten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data that confirm their already-hel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miss data that contradict their already-hel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irmation bias can result in two types of criti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 of your innovation because it contradicts people’s opinions of th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 of your personality and integrity. This occurs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to dislike a person for one reason but like them for another reason. We tend to like (or dislike) a person in their entir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being “unreasonable” will make some people dislike you for one reason, and therefore assume you are uniformly dislik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just criticisms may take differen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240" y="66600"/>
            <a:ext cx="8211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ticisms may come in the form of accus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va Coll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 teacher in a school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innovative teaching style worked very well with 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as unable to convince other school staff of the benefits of her innovations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converted half of her house into a small school and taught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encountered a criticism: “You are experimenting on the student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usation was true: s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ing to improve her teaching techniques. And the experiments 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usation had some hidden assumptions that were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46:31Z</dcterms:modified>
  <cp:revision>1132</cp:revision>
  <dc:subject/>
  <dc:title>Criticism and Rejection</dc:title>
</cp:coreProperties>
</file>