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92F8E8F-370A-4603-8260-B739279205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4564CE3-77BD-42C8-B47B-F74D825AFA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ime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Ob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1560" y="66600"/>
            <a:ext cx="447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ion or obses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nging about change 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normous amount of time (as already discus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coming obstacles that are difficult and sometime seem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persevering at such a  task indicate dedication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does it indicate obs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universal answer to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subjective: one person’s dedication is another person’s ob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verb “All things in moderation” is not help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ion prevents unhealthy ob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deration also prevents healthy d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22240" y="66600"/>
            <a:ext cx="5661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ion or obsession?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dedication/obsession might badly impact on your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develop health problems due to overwork or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r relationship with your partner deterio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r career is put a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uch cases, you need to decide if persevering is worth the trouble it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utobiographies mention the harmful effects of dedication on their l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lson Mandela repeatedly struggled with weighing his duty as a activist and his duties to his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zabeth Kenny had to choose between accepting a marriage proposal or working as a nurse; she chose the l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suffered from months of sleep deprivation and stress when organizing Band Aid and Liv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Unconventional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4680" y="66600"/>
            <a:ext cx="621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conventional reward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sm can cost you a lot of time and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activism can impoveris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activis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rich your life in other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develop a network of close friends who share your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ctivists in other regions may offer you free accommodation and food when you travel on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ing about positive change can provide deep meaning to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ould have had a normal life. I could have had a normal legal career. I’d be a partner in some big firm by now. I’d be making tons of money. I make less now than the secretary at my old law fi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9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 is a poor substitute for having an interesting life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Elizabeth May, autho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to Save the World in Your Spare Ti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66600"/>
            <a:ext cx="7402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nventional rewards of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necdote i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to Save the World in Your Spar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lizabeth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sts opposed the environmentally-destructive plans of a large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siness sued the activists, trying to bankrupt them into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ists were depressed and stressed about this legal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 an activist’s car was being repaired at a ga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 saw a news story about the law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“I really envy you. I go to work every day. I fix cars. I never know if my life really means anything. You know. Your life really makes a differe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the activist “went from feeling sorry for herself, to feeling luck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7020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significan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take much longer than you assume. Possibly your entir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have patience and perseve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develop these skills in “delayed gratification”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you can dec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commitment healthy dedication or unhealthy ob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commitment worth the sacrifices you have to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ciate the unconventional benefits that activism b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Time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2160" y="66600"/>
            <a:ext cx="6946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: change occurs very slow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ould be great if you could bring about change in a we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meaningful change usually occurs much more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ring about change,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patience and persev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nderstand why, consider the scenario on the next sl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66600"/>
            <a:ext cx="688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e change is just the tip of the icebe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ee a problem that should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estimate that doing so will take a few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stimate is far too short. The work takes many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is time, you realize that the problem you addressed was really just a symptom of a larg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estimate it will take several more months to fix this larg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stimate is far too short. The work takes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you realize this second problem was just a symptom of an even larger proble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s why patience and perseverance are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occurred for many people throughout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82720" y="66600"/>
            <a:ext cx="371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 wanted to raise some money to combat famine in Ethiop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organized the Band Aid charity record; it raised millions of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by default, much of the money raised would be wasted on bureaucracy and expensive means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finds ways to significantly cut thes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the money raised was not enough to combat f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organized Live Aid, which raised $200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the amount of aid money is tiny compared to interest payments on the crippling amount of debt that many poor countries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organized Live 8 to pressure large nations to forgive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pan for the above events: more than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4960" y="66600"/>
            <a:ext cx="279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zabeth Kenny developed a successful treatment for p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er 30 years to convince the medical establishment of the validity of her theorie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peacefully ended British rule of In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im 30 years to achieve thi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 introduced the bagless vacuum clea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im 15 years to bring his invention to market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Luther King Jr. made significant progress for black rights with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orked at this for 12 years, until he was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6640" y="66600"/>
            <a:ext cx="744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ing your patience and persev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impatient and give up easily in small things then you are unlikely to have patience and perseverance for big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increase your patience and perseverance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ting down on “instant gratification” activit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television and movies, eating ready-cooked meals, writing blo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ing in some “delayed gratification” activit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gardening, art, do-it-yourself home improvement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exercise, writing long articles or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66600"/>
            <a:ext cx="833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nging about change can be a life-long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ble has a story about patience and persev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es spent 40 years bringing his people to the promise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he died before they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old, you might reflect on your life and think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There is still so much more to 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t is not all gloom and d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occasional milestones of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se and celebrate those to motivate yourself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ld 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nk: “There is so much more to do; therefore I fail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: “There is so much more to do, but I achieved a lot, and other people can continue the work after 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3Z</dcterms:modified>
  <cp:revision>1159</cp:revision>
  <dc:subject/>
  <dc:title>Timescales</dc:title>
</cp:coreProperties>
</file>