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348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l Curve Insight into Satyagr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BBEF5754-27EB-4465-9DEE-288F8E65D8C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FFD1BCFF-23F1-4D41-8E8E-21BCB5FFA11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ell Curve Insight into Satyagrah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16040" y="66600"/>
            <a:ext cx="4237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s of Satyagrah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find many documented examples of Satyagraha-based campaigns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ographies of Gand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Autobiography of Martin Luther King Jr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slides provide two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irst example is from Gand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18 (“Colour Bar”) in Part II of Gandhi’s autobi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econd example is from Martin Luther King Jun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26 (“Selma”)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Autobiography of Martin Luther King Jr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0160" y="66600"/>
            <a:ext cx="7516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Gandhi tackled job discrimin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ce of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dhi had a law 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dhi applied for a license to work in the South African Supreme Cou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non-white person had such a licen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isting barristers invented silly reasons to deny him his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dhi was enraged by this, “but I restrained my feeling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dhi’s autobiography does not mention him communicating the issue to newspapers. But he must have done so becau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the newspapers condemned the opposition and accused the Law Society of jealous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way, peer pressure was ap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: Gandhi obtained his lic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this example shows that Satyagraha can work even if your opponent uses bureaucracy instead of vio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5320" y="66600"/>
            <a:ext cx="732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King secured black voting righ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9000"/>
          </a:bodyPr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ce of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many states in the US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people could not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racist bureaucracy made it almost impossible for black people to register to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ng asked the US president to introduce a bill to tackle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esident said public and political opinion would defeat such a b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ng organized Satyagraha-based protests in Sel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ma had racist bureaucracy to hinder black voter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planned, peaceful protestors were met with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wide media reported the pro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: the apathetic majority applied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esident was able to introduce a bill for black v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ill pa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 elapsed time: 5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tyagraha is usually explained in religious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thing like “love is more powerful than ha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“penance and suffering are good for the sou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ell curve model offers a better explanation for the success of Satyag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non-religious explanation is easier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has only scratched the surface of Satyag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tyagraha has many subtleties you need to understand before you can use it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 the “Satyagraha” chapter for more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What is Satyagrah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5520" y="66600"/>
            <a:ext cx="4097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ndhi and Satyagrah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handas Karamchand Gandhi (1869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1948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w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of the most significant people of the 2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entur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ccording to Time magaz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of the most successful activists of al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other famous activists were inspired by Gandh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Martin Luther King and Nelson Mand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used peaceful tactics to fight violent op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did not like the term “passive resistan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oined the term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atyagrah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meaning truth-for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Sanskrit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aty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truth;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rah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firmness o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17720" y="66600"/>
            <a:ext cx="5286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utline of Satyagraha strate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line of Satyagraha strate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 peaceful demonstrations and refuse to obey unjust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resist arrest. Do not defend yourself against at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try to destroy, hurt or humiliate your oppressor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stead, leave the door open to friend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ppressors typically respond to this strategy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 imprisonment of prote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atings and even murder of the prote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prisingly, Satyagraha (eventually) 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dhi had many successes with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tually, he used it to end English rule of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explanation for Satyagraha’s suc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560" y="66600"/>
            <a:ext cx="7979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ndhi’s explanation of Satyagraha’s suc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described Satyagraha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vindication of truth not by infliction of suffering on the opponent but on one’s self.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11 (“Gandhi Goes to Jail”) of Part One in “The Life of Mahatma Gandhi” by Louis Fi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longer descriptions of Satyagraha but they all are based on religious ideas,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ve can conquer 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f-suffering, penance and self-restraint are good for the so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tyagraha worked, but it does not seem lo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ell curve of intolerance offers another expla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ch easier to understand, regardless of your religious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can understand Satyagraha then you can use it in your activ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Insight provided by the bell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440" y="66600"/>
            <a:ext cx="8988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bell curve explanation for Satyagraha’s suc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and pro-X activists do a peaceful protes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signed to provok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ti-X extrem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X extremists react, usually with violence and mass arr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and pro-X activist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o 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end themselves or resist ar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symmetrical conflict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idely report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pathetic majorit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ome sympathetic and take 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don’t like X people much but they don’t deserv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eatme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pu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eer pressur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anti-X extremists to s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nternational, apathetic community also becomes sympa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put political peer pressure on the government to stop anti-X extrem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93400" y="66600"/>
            <a:ext cx="4908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arison of explan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did not discuss mass communication (to generate peer pressure) as being a part of Satyag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he thought this was obvious &amp; therefore not worth men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perhaps he was so focused on spiritual issues that he discarded non-spiritual aspects of Satyag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 Shepard (author of “Mahatma Gandhi and His Myths”) believes Gandhi did not realize the importance of mass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s communication is important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enables the apathetic majority to see the horrifying truth of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anti-X extremists believe they are carrying out the will of the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 majority express horror at the actions of the anti-X extremi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tremists’ pride turns to sh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tremists no longer feel safe from prosecution by the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5:40Z</dcterms:modified>
  <cp:revision>1305</cp:revision>
  <dc:subject/>
  <dc:title>Bell Curve Insight into Satyagraha</dc:title>
</cp:coreProperties>
</file>