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7008813" cy="9348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3776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3260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4292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3776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3260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681000" y="66600"/>
            <a:ext cx="1701720" cy="69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3776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3260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4292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3776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3260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81000" y="66600"/>
            <a:ext cx="1701720" cy="69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123840" y="6448320"/>
            <a:ext cx="4695840" cy="408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hting the Domino Effe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8265960" y="6486480"/>
            <a:ext cx="11624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0480" rIns="60480" tIns="23760" bIns="23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fld id="{120D7484-3456-4C17-AC86-666A4E29E80F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601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601"/>
              </a:spcBef>
              <a:buClr>
                <a:srgbClr val="0b287b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08160" indent="-163440">
              <a:spcBef>
                <a:spcPts val="601"/>
              </a:spcBef>
              <a:buClr>
                <a:srgbClr val="0b287b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-160560">
              <a:spcBef>
                <a:spcPts val="601"/>
              </a:spcBef>
              <a:buClr>
                <a:srgbClr val="0b287b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2840" indent="-16056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2840" indent="-16056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76320" y="517680"/>
            <a:ext cx="8991360" cy="0"/>
          </a:xfrm>
          <a:prstGeom prst="line">
            <a:avLst/>
          </a:prstGeom>
          <a:ln w="57240">
            <a:solidFill>
              <a:srgbClr val="2b7e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477120"/>
            <a:ext cx="8991360" cy="0"/>
          </a:xfrm>
          <a:prstGeom prst="line">
            <a:avLst/>
          </a:prstGeom>
          <a:ln w="57240">
            <a:solidFill>
              <a:srgbClr val="2b7e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42920" y="123840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65960" y="6486480"/>
            <a:ext cx="11624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0480" rIns="60480" tIns="23760" bIns="23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fld id="{9D2B2B3D-4608-4430-9A4F-AA87220BA582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84120" indent="0" algn="ctr">
              <a:spcBef>
                <a:spcPts val="499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14240" algn="ctr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44720" algn="ctr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22280" algn="ctr">
              <a:spcBef>
                <a:spcPts val="249"/>
              </a:spcBef>
              <a:buClr>
                <a:srgbClr val="0b287b"/>
              </a:buClr>
              <a:buFont typeface="Arial"/>
              <a:buChar char="-"/>
              <a:tabLst>
                <a:tab algn="l" pos="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5" marL="1322280"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6" marL="1322280"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2920" y="123840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Fighting the Domino Effec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42920" y="2152440"/>
            <a:ext cx="8858160" cy="957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6094440"/>
            <a:ext cx="3071880" cy="758880"/>
          </a:xfrm>
          <a:prstGeom prst="rect">
            <a:avLst/>
          </a:prstGeom>
          <a:ln w="0">
            <a:noFill/>
          </a:ln>
        </p:spPr>
      </p:pic>
      <p:pic>
        <p:nvPicPr>
          <p:cNvPr id="84" name="4000E30Nf" descr=""/>
          <p:cNvPicPr/>
          <p:nvPr/>
        </p:nvPicPr>
        <p:blipFill>
          <a:blip r:embed="rId2"/>
          <a:stretch/>
        </p:blipFill>
        <p:spPr>
          <a:xfrm>
            <a:off x="3429000" y="259092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450440" y="66600"/>
            <a:ext cx="629460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A general atmosphere of intolera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following example is from Martin Luther King’s autobiograp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hapter 21 (“Death of Illusions”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en Kennedy was assassinated, King pointed out tha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ti-X violence and murder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cannot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e confined to just X peo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stead, anti-X intolerance infects other aspects of society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“hate […] grows and spreads as a disease”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 creates an atmosphere in which people think it is acceptable to kill somebody they disagree wi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 was in such an atmosphere that JFK was assassin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ut another wa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ti-X intolerance does not affect non-X people direct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ut it creates a general atmosphere of violence that is bad for non-X peo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10720" y="66600"/>
            <a:ext cx="748188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A general atmosphere of intolerance (cont’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ther examples that back up King’s poin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ynching in USA was used mainly against black peo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ut some white people were lynched to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azi concentration camps are associated with killing Je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ut other groups were killed in concentration camps too, includi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ntally retarded people, alcoholics, homeless peo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omosexuals, prostitutes, habitual crimin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oman Catholic Polish people, Jehovah’s Witne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omany and Sinti people (more commonly known as gypsi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ocial democrats, freemasons, anarchi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mmunists (including Soviet prisoners of wa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44240" y="66600"/>
            <a:ext cx="822780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ti-X prejudice limits choices for non-X peop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ti-gay prejudice can hurt straight peo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 straight people suffer anti-gay prejudice because they dress, speak or behave the “wrong way” or have an “inappropriate” jo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avoid that danger, many straight people engage in self-censorsh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avoid suffering anti-X prejudice, many non-X people avoid having X frie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2920" y="123840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42920" y="2152440"/>
            <a:ext cx="8858160" cy="957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3. “There is a simple and effective way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ou can stop this problem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52080" y="66600"/>
            <a:ext cx="845028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he simple and effective way to stop the proble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et’s assume John is non-X and is an anti-X extrem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e commits acts of anti-X violence or mur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e also makes anti-X stat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f John hears “Your anti-X statements are unacceptabl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From an X person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, he is unlikely to change his behaviour or attitu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From a non-X person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, he is much more likely to ch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ecause John had previously assumed he was “doing what the public want but are too scared to do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, we need to empower the publi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enever you hear an anti-X statement, just say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“Stop. Those comments are unacceptable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01280" y="66600"/>
            <a:ext cx="773604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A joint “Don’t tolerate intolerance” campaig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y activists fight against intolerance for one specific grou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ghting against homophobia does not reduce anti-black raci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ghting against anti-black racism does not reduce Islamophob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ghting against Islamophobia does not reduce anti-Semiti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so 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ight be better for activists to pool resour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a joint “Don’t tolerate intolerance” campaig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iv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X peopl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courage to say “That’s unacceptable” to anti-X com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only thing necessary for the triumph of evil is for good men to do nothing say nothing when they hear an anti-X comment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y to stop the domino effect before it can lead to violence and mur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27160" y="470844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654200" y="66600"/>
            <a:ext cx="579744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hame anti-X media personaliti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me TV presenters and journalists repeatedly make anti-X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cumulative effects of these could be made visual in a TV advertisem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 actor is dressed as a famous TV or radio personality who regularly makes anti-X com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actor uses a bullhorn to repeatedly state anti-X comments made by the pers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 a crowded street, in a shopping mall, in a school, in a sports stadium,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ag line: “The anti-X comments made by &lt;personality’s name&gt; on &lt;name and date of program or newspaper&gt; reached 2,534,000 people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42920" y="123840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42920" y="2152440"/>
            <a:ext cx="8858160" cy="957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4. Summ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666960" y="66600"/>
            <a:ext cx="174168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e can stop the domino effect by communicating 3 messages to the publ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essage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ti-X intolerance is a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much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igger problem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an you realize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essage 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ti-X intolerance is bad for non-X people too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essage 3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re is a simple and effective way you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an stop this problem. Just say `Stop.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ose comments are unacceptable.’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en you hear anti-X comments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5334120" y="1828800"/>
            <a:ext cx="3567240" cy="4495680"/>
            <a:chOff x="5334120" y="1828800"/>
            <a:chExt cx="3567240" cy="4495680"/>
          </a:xfrm>
        </p:grpSpPr>
        <p:sp>
          <p:nvSpPr>
            <p:cNvPr id="121" name=""/>
            <p:cNvSpPr/>
            <p:nvPr/>
          </p:nvSpPr>
          <p:spPr>
            <a:xfrm>
              <a:off x="7315200" y="1828800"/>
              <a:ext cx="1523880" cy="29718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457800">
              <a:off x="7343280" y="2079360"/>
              <a:ext cx="1525680" cy="58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nti-X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ass mur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629400" y="2743200"/>
              <a:ext cx="1523880" cy="2743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rot="468000">
              <a:off x="6705360" y="2993400"/>
              <a:ext cx="1371600" cy="58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nti-X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ur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019920" y="3809880"/>
              <a:ext cx="1523880" cy="22096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 rot="534000">
              <a:off x="6095520" y="4060440"/>
              <a:ext cx="1371600" cy="58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nti-X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iolen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334120" y="4876560"/>
              <a:ext cx="1523880" cy="1447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 rot="609000">
              <a:off x="5410080" y="5127120"/>
              <a:ext cx="1371600" cy="58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nti-X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ommen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13120" y="66600"/>
            <a:ext cx="144792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Licens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pyright © 2009 Ciaran McHa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ssion is hereby granted, free of charge, to any person obtaining a copy of th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raining course and associated documentation files (the “Training Course"), to deal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Training Course without restriction, including without limitation the rights to us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py, modify, merge, publish, distribute, sublicense, and/or sell copies of the Trai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urse, and to permit persons to whom the Training Course is furnished to do so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bject to the following condi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above copyright notice and this permission notice shall be included in all cop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r substantial portions of the Training Cour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TRAINING COURSE IS PROVIDED "AS IS", WITHOUT WARRANTY OF 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KIND, EXPRESS OR IMPLIED, INCLUDING BUT NOT LIMITED TO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ARRANTIES OF MERCHANTABILITY, FITNESS FOR A PARTICULAR PURP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ND NONINFRINGEMENT. IN NO EVENT SHALL THE AUTHORS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PYRIGHT HOLDERS BE LIABLE FOR ANY CLAIM, DAMAGES OR 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IABILITY, WHETHER IN AN ACTION OF CONTRACT, TORT OR OTHERWIS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RISING FROM, OUT OF OR IN CONNECTION WITH THE TRAINING CO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R THE USE OR OTHER DEALINGS IN THE TRAINING COUR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globe logo is from www.mapAbility.com. Used with permiss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441240" y="66600"/>
            <a:ext cx="219708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previous chapter explained the problem of the domino eff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s chapter proposes a way to combat the prob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28400" y="66600"/>
            <a:ext cx="465300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hree important messag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e have to communicate 3 messages to the publi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essage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ti-X intolerance is a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much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igger problem than you realize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essage 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ti-X intolerance is bad for non-X people too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essage 3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re is a simple and effective way you can stop this problem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42920" y="123840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42920" y="2152440"/>
            <a:ext cx="8858160" cy="957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. “Anti-X intolerance is a 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much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igger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oblem than you realize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10720" y="66600"/>
            <a:ext cx="755964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 haven’t seen it so I don’t believe it exists”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ason why non-X people under-estimate anti-X intoler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 haven’t seen it so I don’t believe it exists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y non-X people do not have close X friends becau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X people might be a minority of the pop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ost X people might live in “X neighbourhoods” or socialize in “X pubs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ti-X intolerance 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requently expressed at X people (verbal abuse or viole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uch less frequently witnessed by non-X peo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refo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 X person is likely to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experienc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ti-X intolerance 100+ times more often than a non-X person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witnesses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o, non-X people witness less than 1% of anti-X intoler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o, most non-X people think anti-X intolerance is not a big probl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73160" y="66600"/>
            <a:ext cx="706608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ommunicating statistics on hate crim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cap: in 2008 in London, England, there we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ver 1000 racist and religious hate crime incidents reported per month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number of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unreported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incidents is estimated to be 5 times great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ver 100 homophobic hate crime incidents reported per month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number of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unreported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cidents is estimated to be 10 times great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rketing can be used to express hate crime statistics in ways that people find meaningful and memor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reak down statistics per year? Month? Week? Day? Hour? Minut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mpare hate crime statistics to statistics for other types of crim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mpare hate crime statistics to other activitie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xampl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ow long does it take you to wash your hands (of a problem)?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very breakfast time, lunchtime and dinner time, a gay hate crime is committed in London. Can you stomach it?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42920" y="123840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42920" y="2152440"/>
            <a:ext cx="8858160" cy="957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2. “Anti-X intolerance is bad for non-X people too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120840" y="66600"/>
            <a:ext cx="293508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Revenge attack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ne reason why anti-X intolerance is bad for non-X peo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ome oppressed X people will hit back at non-X peo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re is another, not so obvious, reason why anti-X intolerance is bad for non-X people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4-11-29T12:26:44Z</dcterms:created>
  <dc:creator>Ciaran McHale</dc:creator>
  <dc:description/>
  <dc:language>en-US</dc:language>
  <cp:lastModifiedBy>Ciaran McHale</cp:lastModifiedBy>
  <cp:lastPrinted>2002-08-30T21:11:41Z</cp:lastPrinted>
  <dcterms:modified xsi:type="dcterms:W3CDTF">2009-06-30T12:55:37Z</dcterms:modified>
  <cp:revision>1323</cp:revision>
  <dc:subject/>
  <dc:title>Fighting the Domino Effect</dc:title>
</cp:coreProperties>
</file>