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536256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l-curve Model’s Insight into Crowd Psych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D4F903D6-8F17-42C5-AA8C-19EB79290F3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27E1FD3-B2EC-4052-972D-39E4B21D557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040"/>
            <a:ext cx="8858160" cy="98100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ell-curve Model’s Insight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to Crowd Psych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81080" y="66600"/>
            <a:ext cx="3305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rowd psych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rowd acts differently to the individuals in the cro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ngry mob might kill 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most individuals in the mob do not intend for that to ha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they just want to shout their disapproval of some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wd psychology is typically viewed as being mysterio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several competing psychological the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e seem entirely convincing or understandable to a lay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Convergence the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: people who wish to act in a certain way come together to form crow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most individuals in a mob do not intend to do h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2640" y="66600"/>
            <a:ext cx="7499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lanation offered by the bell curve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icipants in a crowd are a skewed representation of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0640" y="2965320"/>
            <a:ext cx="8129520" cy="3435480"/>
          </a:xfrm>
          <a:custGeom>
            <a:avLst/>
            <a:gdLst/>
            <a:ahLst/>
            <a:rect l="l" t="t" r="r" b="b"/>
            <a:pathLst>
              <a:path w="5121" h="2164">
                <a:moveTo>
                  <a:pt x="0" y="2159"/>
                </a:moveTo>
                <a:cubicBezTo>
                  <a:pt x="43" y="2155"/>
                  <a:pt x="177" y="2151"/>
                  <a:pt x="259" y="2133"/>
                </a:cubicBezTo>
                <a:cubicBezTo>
                  <a:pt x="341" y="2115"/>
                  <a:pt x="400" y="2093"/>
                  <a:pt x="492" y="2048"/>
                </a:cubicBezTo>
                <a:cubicBezTo>
                  <a:pt x="584" y="2003"/>
                  <a:pt x="714" y="1940"/>
                  <a:pt x="809" y="1863"/>
                </a:cubicBezTo>
                <a:cubicBezTo>
                  <a:pt x="904" y="1786"/>
                  <a:pt x="967" y="1711"/>
                  <a:pt x="1063" y="1583"/>
                </a:cubicBezTo>
                <a:cubicBezTo>
                  <a:pt x="1159" y="1455"/>
                  <a:pt x="1287" y="1249"/>
                  <a:pt x="1385" y="1095"/>
                </a:cubicBezTo>
                <a:cubicBezTo>
                  <a:pt x="1483" y="941"/>
                  <a:pt x="1569" y="778"/>
                  <a:pt x="1649" y="658"/>
                </a:cubicBezTo>
                <a:cubicBezTo>
                  <a:pt x="1729" y="538"/>
                  <a:pt x="1789" y="460"/>
                  <a:pt x="1865" y="375"/>
                </a:cubicBezTo>
                <a:cubicBezTo>
                  <a:pt x="1941" y="290"/>
                  <a:pt x="2032" y="201"/>
                  <a:pt x="2104" y="146"/>
                </a:cubicBezTo>
                <a:cubicBezTo>
                  <a:pt x="2176" y="91"/>
                  <a:pt x="2228" y="68"/>
                  <a:pt x="2299" y="45"/>
                </a:cubicBezTo>
                <a:cubicBezTo>
                  <a:pt x="2370" y="22"/>
                  <a:pt x="2436" y="0"/>
                  <a:pt x="2532" y="8"/>
                </a:cubicBezTo>
                <a:cubicBezTo>
                  <a:pt x="2628" y="16"/>
                  <a:pt x="2764" y="34"/>
                  <a:pt x="2875" y="93"/>
                </a:cubicBezTo>
                <a:cubicBezTo>
                  <a:pt x="2986" y="152"/>
                  <a:pt x="3110" y="267"/>
                  <a:pt x="3198" y="362"/>
                </a:cubicBezTo>
                <a:cubicBezTo>
                  <a:pt x="3286" y="457"/>
                  <a:pt x="3327" y="549"/>
                  <a:pt x="3401" y="663"/>
                </a:cubicBezTo>
                <a:cubicBezTo>
                  <a:pt x="3475" y="777"/>
                  <a:pt x="3554" y="912"/>
                  <a:pt x="3641" y="1047"/>
                </a:cubicBezTo>
                <a:cubicBezTo>
                  <a:pt x="3728" y="1182"/>
                  <a:pt x="3847" y="1364"/>
                  <a:pt x="3922" y="1472"/>
                </a:cubicBezTo>
                <a:cubicBezTo>
                  <a:pt x="3997" y="1580"/>
                  <a:pt x="4018" y="1613"/>
                  <a:pt x="4091" y="1694"/>
                </a:cubicBezTo>
                <a:cubicBezTo>
                  <a:pt x="4164" y="1775"/>
                  <a:pt x="4268" y="1891"/>
                  <a:pt x="4361" y="1959"/>
                </a:cubicBezTo>
                <a:cubicBezTo>
                  <a:pt x="4454" y="2027"/>
                  <a:pt x="4567" y="2073"/>
                  <a:pt x="4649" y="2103"/>
                </a:cubicBezTo>
                <a:cubicBezTo>
                  <a:pt x="4731" y="2133"/>
                  <a:pt x="4773" y="2128"/>
                  <a:pt x="4852" y="2138"/>
                </a:cubicBezTo>
                <a:cubicBezTo>
                  <a:pt x="4931" y="2148"/>
                  <a:pt x="5065" y="2159"/>
                  <a:pt x="5121" y="2164"/>
                </a:cubicBezTo>
                <a:cubicBezTo>
                  <a:pt x="5121" y="2164"/>
                  <a:pt x="0" y="2159"/>
                  <a:pt x="0" y="2159"/>
                </a:cubicBezTo>
                <a:close/>
              </a:path>
            </a:pathLst>
          </a:custGeom>
          <a:solidFill>
            <a:srgbClr val="91919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895480"/>
            <a:ext cx="4647960" cy="349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0640" y="2965320"/>
            <a:ext cx="8129520" cy="3435480"/>
          </a:xfrm>
          <a:custGeom>
            <a:avLst/>
            <a:gdLst/>
            <a:ahLst/>
            <a:rect l="l" t="t" r="r" b="b"/>
            <a:pathLst>
              <a:path w="5121" h="2164">
                <a:moveTo>
                  <a:pt x="0" y="2159"/>
                </a:moveTo>
                <a:cubicBezTo>
                  <a:pt x="43" y="2155"/>
                  <a:pt x="177" y="2151"/>
                  <a:pt x="259" y="2133"/>
                </a:cubicBezTo>
                <a:cubicBezTo>
                  <a:pt x="341" y="2115"/>
                  <a:pt x="400" y="2093"/>
                  <a:pt x="492" y="2048"/>
                </a:cubicBezTo>
                <a:cubicBezTo>
                  <a:pt x="584" y="2003"/>
                  <a:pt x="714" y="1940"/>
                  <a:pt x="809" y="1863"/>
                </a:cubicBezTo>
                <a:cubicBezTo>
                  <a:pt x="904" y="1786"/>
                  <a:pt x="967" y="1711"/>
                  <a:pt x="1063" y="1583"/>
                </a:cubicBezTo>
                <a:cubicBezTo>
                  <a:pt x="1159" y="1455"/>
                  <a:pt x="1287" y="1249"/>
                  <a:pt x="1385" y="1095"/>
                </a:cubicBezTo>
                <a:cubicBezTo>
                  <a:pt x="1483" y="941"/>
                  <a:pt x="1569" y="778"/>
                  <a:pt x="1649" y="658"/>
                </a:cubicBezTo>
                <a:cubicBezTo>
                  <a:pt x="1729" y="538"/>
                  <a:pt x="1789" y="460"/>
                  <a:pt x="1865" y="375"/>
                </a:cubicBezTo>
                <a:cubicBezTo>
                  <a:pt x="1941" y="290"/>
                  <a:pt x="2032" y="201"/>
                  <a:pt x="2104" y="146"/>
                </a:cubicBezTo>
                <a:cubicBezTo>
                  <a:pt x="2176" y="91"/>
                  <a:pt x="2228" y="68"/>
                  <a:pt x="2299" y="45"/>
                </a:cubicBezTo>
                <a:cubicBezTo>
                  <a:pt x="2370" y="22"/>
                  <a:pt x="2436" y="0"/>
                  <a:pt x="2532" y="8"/>
                </a:cubicBezTo>
                <a:cubicBezTo>
                  <a:pt x="2628" y="16"/>
                  <a:pt x="2764" y="34"/>
                  <a:pt x="2875" y="93"/>
                </a:cubicBezTo>
                <a:cubicBezTo>
                  <a:pt x="2986" y="152"/>
                  <a:pt x="3110" y="267"/>
                  <a:pt x="3198" y="362"/>
                </a:cubicBezTo>
                <a:cubicBezTo>
                  <a:pt x="3286" y="457"/>
                  <a:pt x="3327" y="549"/>
                  <a:pt x="3401" y="663"/>
                </a:cubicBezTo>
                <a:cubicBezTo>
                  <a:pt x="3475" y="777"/>
                  <a:pt x="3554" y="912"/>
                  <a:pt x="3641" y="1047"/>
                </a:cubicBezTo>
                <a:cubicBezTo>
                  <a:pt x="3728" y="1182"/>
                  <a:pt x="3847" y="1364"/>
                  <a:pt x="3922" y="1472"/>
                </a:cubicBezTo>
                <a:cubicBezTo>
                  <a:pt x="3997" y="1580"/>
                  <a:pt x="4018" y="1613"/>
                  <a:pt x="4091" y="1694"/>
                </a:cubicBezTo>
                <a:cubicBezTo>
                  <a:pt x="4164" y="1775"/>
                  <a:pt x="4268" y="1891"/>
                  <a:pt x="4361" y="1959"/>
                </a:cubicBezTo>
                <a:cubicBezTo>
                  <a:pt x="4454" y="2027"/>
                  <a:pt x="4567" y="2073"/>
                  <a:pt x="4649" y="2103"/>
                </a:cubicBezTo>
                <a:cubicBezTo>
                  <a:pt x="4731" y="2133"/>
                  <a:pt x="4773" y="2128"/>
                  <a:pt x="4852" y="2138"/>
                </a:cubicBezTo>
                <a:cubicBezTo>
                  <a:pt x="4931" y="2148"/>
                  <a:pt x="5065" y="2159"/>
                  <a:pt x="5121" y="21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6394320"/>
            <a:ext cx="815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83000" y="2557440"/>
            <a:ext cx="92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1670040"/>
            <a:ext cx="1828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unvoiced anti-X thou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1673280"/>
            <a:ext cx="15242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anti-X com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44560" y="3651120"/>
            <a:ext cx="922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33692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2664000"/>
            <a:ext cx="914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 abuse of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390060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4738680"/>
            <a:ext cx="990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870440"/>
            <a:ext cx="2286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4191120"/>
            <a:ext cx="22860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2813040"/>
            <a:ext cx="3808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220356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562720" y="2432160"/>
            <a:ext cx="7617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172200" y="3422520"/>
            <a:ext cx="8380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934320" y="4413240"/>
            <a:ext cx="4572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772040" y="5251320"/>
            <a:ext cx="3049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660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lanation offered by the bell curve model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 of crowd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ngry mob 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ts of anti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few, if any, neutral or pro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“sun, sand and sex” holiday resort attra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ts of “let’s party”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few, if any, religious people or families with young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type of skew can result in unusual behaviou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4680" y="66600"/>
            <a:ext cx="6208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an angry mob might kill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kewed population sample in a mob results in a domino 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body opposes the shouting of anti-X slo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anti-X slogans are sh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who want to commit violence take the shouting as encouragement to beat up some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people who want to kill take the beatings as encouragement to k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wise, in a “sun, sand and sex” res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nobody to re-enforce self-restraint or inhib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behave during a holiday unlike they would at hom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where there is a more balanced sample of the pop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622600" y="66600"/>
            <a:ext cx="3843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levance to activ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organize a marc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ware that the marchers are a skewed representation of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unusual behaviour might occ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arch of angry protestors might turn into an angry mob ri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ys to reduce the chances of this occur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 fun theme into the 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umes, funny placards, funny ch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, introduce religion into the 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g hy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wd psychology can be explained as follow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crowds contain a skewed sample of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an angry mob or people on a “sun, sand and sex” hol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tally, the crowd is missing people who say “Don’t do tha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ce of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ts with behaviour that is unusual in a “normal popul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ck of “Don’t do that” comments encourages more unusual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encourages more extreme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steps to ensure that a protest march does not turn into an angry mob, which then turns into a ri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fun or religion into the 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11:06:36Z</dcterms:modified>
  <cp:revision>1275</cp:revision>
  <dc:subject/>
  <dc:title>Bell-curve Model’s Insight into Crowd Psychology</dc:title>
</cp:coreProperties>
</file>