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47B587A-DC81-42A1-BA3B-A5A0CCFBF9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731FE7C-3234-43D6-8096-BD6E391A17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inciples of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7080" y="66600"/>
            <a:ext cx="4573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forg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iveness is important for several reas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some anti-X extremists to rethink their anti-X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eases the apathetic majority’s fear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voids future generations of X people holding a grudge against non-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ancestors oppressed my ancestors so I hate yo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Importance of self-re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5320" y="66600"/>
            <a:ext cx="682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straint is required for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of self-restraint required for Satyagraha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strain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strain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rrested then obey all the rules while in p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tyagraha protest will fail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stors defend themselves against att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n the protect looks like a riot and this will not get sympathy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wise, resisting arrest or being a bad prisoner loses you sympathy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6840" y="66600"/>
            <a:ext cx="372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straint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Luther King organized training for prote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28 (“Chicago Campaign”) of hi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W]e had trained a group of about two thousand disciplined devotees of nonviolence who were willing to take blows without retalia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his autobiography does not describe the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dow’s autobiography briefly mentions the use of role play-based training at the end of the Montgomery bus boyc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7 (“Don’t you get weary”)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Life with Martin Luther King, J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retta Scott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3400" y="66600"/>
            <a:ext cx="690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ing self-restraint in your daily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took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felt people should practice self-restrain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 of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he advo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ibacy, eating a bland diet, abstinence from alcohol and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nual labour and living in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esty and living fully in accord with your 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ligions associate self-restraint with spiritual well-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it was natural for Gandhi to think all forms of self-restraint we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self-restraint is a transferable sk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is then practising self-restraint in your daily life will provide you with the self-restraint required for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is unlikely that you need to practise self-restraint in every aspect of your life to have sufficient self-restraint for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1400" y="66600"/>
            <a:ext cx="714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elf-restraint fails then stop the protes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 (“Murder”) in Part Two of Louis Fischer’s biography of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organized a Satyagraha-based campaign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tunately, some Indians u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immediately stopped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iscalculation, Gandhi explained, was in overlooking the fact that a person must be trained in civil obedience before civil disobedience against some laws could succe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6 (“Drama at the Seashore”) in Part Tw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organized another Satyagraha-based campaign, this time to protest the British monopoly on making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rulers used mass arrests and violence against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s d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violence. “Because they treasured the movement Gandhi had conjured into being, and lest he cancel it, they abstained from for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sist the urge to destroy your op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11240" y="66600"/>
            <a:ext cx="710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 the urge to destroy your oppon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yagraha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t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iliate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oy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explanation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yagraha rejects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ting, humiliating and destroying are forms of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-religious explanation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g in a gentle manner creates newsworthy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 turn cause the apathetic majority to apply peer pressure on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9920" y="66600"/>
            <a:ext cx="15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hapter 15 (“The Victory”) of “The Life of Mahatma Gandhi” by Louis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fighting against  anti-Indian oppression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organizing a massive protest march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white employees of all railways went on str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postponed the march until the strike wa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d not want to “destroy, hurt, humble or embitter the adversary, or to win a victory by weakening hi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ympathy for the plight of his oppo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impressed the apathetic majority and increased thei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more pressure on the government to negotiate rather than f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6880" y="66600"/>
            <a:ext cx="666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benefit of avoiding viol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had another reason for not destroying his op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nted the oppressor and oppressed to becom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your oppressors powerless to oppress you anymor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erhaps by killing them or putting them in pr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turn your oppressors into friends so they do not want to oppress you an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mportance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520" y="66600"/>
            <a:ext cx="7637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tegy of Satyagra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bat the anti-X extremist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in the support of the apathetic majority 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use peer pressure to stop the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n the support of the apathetic majority, you need to arouse their sympathy enough so they apply pe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 thi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ing events (protests, strikes, a trial…) that exposes the injustice and requires sympathy and action to rectify the in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this “sympathy and peer pressure required” to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720" y="66600"/>
            <a:ext cx="882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causes of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ing without communicating “sympathy and peer pressure requi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that message, bu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autobiography provides an example of the la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30 (“That Wonderful Spectacle!”) in Part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recruited Indians to fight for England in the First World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ectation was that after the war, England would give Indians more civi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war, many civil liberties were suspended for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war, England decid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civil lib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did not seem to realize why 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als to the English rul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arnestly pleaded with the Viceroy. I addressed him private letters as also public letters […] But it was all in v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600" y="66600"/>
            <a:ext cx="882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rom “The Autobiography of Martin Luther King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what King wrote about Gandhi’s teac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: look up “Gandhi” in the index to obtain pag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understood the importance of love in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e does not mention anything about the importance of using widespread communication to gener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 (“The Violence of Desperate Men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rganized a peaceful boycott of segregated buses in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boycotters met with representatives of the bus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naively thought the bus company would give in once they understand the viewpoint of the boyco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d believed that the privileged would give up their privileges on request. This experience, however, taught me a lesson. I came to see that no one gives up his privileges without strong resist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4000" y="66600"/>
            <a:ext cx="7221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audience for th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audience for your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udience that can apply peer pressure on the op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this is the general 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ularly for a large-scal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the right audience might be more se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ppressive company, the right audience migh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of a relevant professional trad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ppressive individual, the right audience migh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ndividual’s friends or extended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non-X person who is near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4440" y="66600"/>
            <a:ext cx="840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audience for the communi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from Gandhi’s autob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9 (“More Hardships”) of Part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travelling by a horse-drawn 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t beside the driver (was not allowed to sit inside with passen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er of the coach sat with the pass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the leader wanted to sit beside the driver to smoke a cigar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refused the leader’s instruction to move to the foot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er started beating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cries got the passengers to put peer pressure on the leader to stop the b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bought a first-class ticket for a train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cket inspector ordered him to move to the third-class c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glish passenger in the carriage put peer pressure on the inspector to allow Gandhi to stay in firs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0040" y="66600"/>
            <a:ext cx="744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communicate a large-scale pro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traditional media (TV, radio, pap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ore non-traditional media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he protest on a website or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deo and put it on www.youtub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owerPoint presentation and put it on www.slideshare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letter-writ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tactic employed by Amnesty Inter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4440" y="66600"/>
            <a:ext cx="609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ng with the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informed his opponents about upcoming Satyagraha-based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benefi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oi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lement of surpr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warning your opponent of your actions is un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you can also communicate the forewarning to the media to increase the newsworthiness of your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n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takenly think a peaceful protest is a r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voi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ident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ent reaction of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save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nent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liberately choo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spond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kes the campaign more newsworthy, leading to more peer pressure from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Using Satyagraha when oppress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960" y="66600"/>
            <a:ext cx="7635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p: how Gandhi fac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8 (“Colour Bar”) in Part II of Gandhi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applied for a license to present cases in the Supreme Court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uld make him the first non-white person to have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Gandhi obtained his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9360" y="66600"/>
            <a:ext cx="7836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tical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gay but in the clo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gets a job working with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a valued employ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he comes out; and is f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 course of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sues his former employer for unfair dismi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, this gets a tiny mention in a news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red wins the court case, a huge compensation payment might hurt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decides to use Satyagraha-based tac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lways behav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ely with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mmunicates the job discrimination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and other organizations put peer pressure on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lets the company (and public) know he wants his job back rather than to sue fo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at does not work then Fred takes the case to cou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wins, 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conditio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jects compensation and asks for his job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’s unexpected generosity generates widespread news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is not harmed by a huge compensation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impressed by Fred by not suing for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uts peer pressure on the company to end its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gets his job back, colleagues are likely to treat him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does not get his job back, his display of integrity increases his chances of getting other job o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you can think of many reasons why Satyagraha might fail in the job discrimin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a few reasons why it might succ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usual nature of a Satyagraha-based action is newsworth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most job discrimination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sworthiness raises awareness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lps to cre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of th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l curve model provides an insight into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sight provides us with more options for tackling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nical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ret of  success is sincerity. Once you can fake that you’ve got it mad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an Giraudoux, French diplomat, dramatist, &amp; novelist (18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not fake Satyagraha and hope to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yagraha has too many subtleties for an insincere person to fake it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apter has discussed some of those subtl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exerc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ife of Mahatma Gandh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uis Fi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andh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1982 movie, directed by Richard Attenborough and starring Ben King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utobiography of Martin Luther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6960" y="66600"/>
            <a:ext cx="4097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rpose of this ch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was mentioned earlier in this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Insights into Satya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earlier chapter, you learn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is the technique Gandhi used to fight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Sanskrit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ruth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irmnes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made Gandhi one of the most effective activists of 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’s explained Satyagraha in spiritu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many people find his explanation difficult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ll-curve model explains Satyagraha’s effectiveness more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the principles of Satyagraha in dep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has subtleties you should understand before attempting to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52760" y="66600"/>
            <a:ext cx="5798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bell-curve model’s ins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tech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peaceful demonstrations and refuse to obey unjus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resist arrest. Do not 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try to destroy, hurt or humiliate your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pressors respon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 imprisonment of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atings and even murder of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-curve model explains why the technique 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ymmetrical conflic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dely 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athetic 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sympathetic and tak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like X people much but they don’t deser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er press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nti-X extremists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, apathetic community also becomes 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s political peer pressure on government to stop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66600"/>
            <a:ext cx="750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importance of mass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id not discuss mass communication (to generate peer pressure) as being a par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he thought this was obvious &amp; therefore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as so focused on spiritual issues that he discarded non-spiritual aspects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communication is import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s the apathetic majority to see the horrifying truth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nti-X extremists believe they are carrying out the will of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majority express horror at the actions of the anti-X extrem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’ pride turns to sh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 no longer feel safe from prosecution by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0000" y="66600"/>
            <a:ext cx="425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ucture of this ch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is split into many sections. Each 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es on one aspect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s some subtle, but important, principles about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mportance of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2960" y="66600"/>
            <a:ext cx="4770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non-viol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 is an important ingredien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atyagraha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non-violence and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iolence is important in the short te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reates an asymmetrical confli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olent oppression versus peaceful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ewsworthy, so it is likely to be reported widely by th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ns the sympathy and support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eases the apathetic majority’s fear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iolence is important in the longer te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s future generations of non-X people being hostile towards X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Your ancestors killed my ancestors so I hate you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28:17Z</dcterms:modified>
  <cp:revision>1308</cp:revision>
  <dc:subject/>
  <dc:title>Principles of Satyagraha</dc:title>
</cp:coreProperties>
</file>