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1DDBB0E-B2F4-4EDA-9678-2A08913912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C0AFE32-BA61-4CA8-B4EB-40D9A42615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s segregation fin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6800" y="66600"/>
            <a:ext cx="6314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decreasing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19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56 Montgomery Bus Boycott ended segregation on public buses in the city of Montgo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n public buses continued elsewhere in souther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960 Freedom Rides challenged segregation on inter-state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campaigns had to be launched to tack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forms of segregation within the same city o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ame form of segregation in different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as no single moment in time when segregation suddenly stopp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segregation was reduced piece by pi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after segregation laws were repealed, de facto segregation continued in some aspects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1840" y="66600"/>
            <a:ext cx="557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gregation is not all or no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show that segregation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all or nothing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untry does not have to be either completely segregated or completely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segregation is usually a matter of degr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countries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n’t one law that segregates all aspects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there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laws that, between them, segregat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bunch of laws that segregate 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 more laws that segregate restaurants, restrooms, educati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ly, such laws are created (or repealed) on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the amount of segregation increases or decrease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dern segregation-lik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3760" y="66600"/>
            <a:ext cx="146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het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of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et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of an island near Venice where Jews 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i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ve in the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dictionary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of a city, especially a slum area, inhabited predominantly by members of a minority group, often as a result of social or economic restrictions, pressures or hard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ern cities, ghett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orm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regat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may not require “X” people to live in an ghetto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ly paid jobs and high unemployment levels (due to discrimination) cause X people to live in cheap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eps most X people segregated from most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47880" y="66600"/>
            <a:ext cx="540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regation of disable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lack of disabled access to buildings keeps disabled people segregated from non-disable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yrics of one song are rele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am What I 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rk Dignam, on his 1984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etry and Songs from the Whe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“special” is sometimes used to refer to people with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offered alternative routes of tra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given special things to d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sent to special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66600"/>
            <a:ext cx="6134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discrimination and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iscrimination financially affects a discriminated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serves another purpose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iscrimination helps to maintain segr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keeps the apathetic majority ignorant about the reality of min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n’t have work colleagues who are “different” then your only source of information about such people may be the (biased)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“different” people out of teaching positions maintains the ignorance of future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this can be seen in the UK’s “Section 28” la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cussed on th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320" y="66600"/>
            <a:ext cx="686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28 of the Local Government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8, England and Wales introduced a law that contained the following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cal authority shall 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ionally promote homosexuality or publish material with the intention of promoting homosexua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the teaching in any maintained school of the acceptability of homosexuality as a pretended family relationshi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3, this law was rep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of “promoting” homosexuality was ambigu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t mean “to encourage straight people to become gay”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thing that most gay people think is im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id it mean “to promote the idea that homosexuality is acceptable”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is was a widely accepted interpre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055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28 of the Local Government Ac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there is not much difference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bid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motion of “X is acceptable”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mo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X is unaccep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would say this encourages anti-X preju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urprisingly, this was a major concern with Section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ss widely understood concern was that Section 28 helped to maintain se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elped to maintain the ignorance of (future generations of)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regation is not an “all or nothing”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matter of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l of segregation in a society increases or decreases as individual laws are created or rep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vidual anti-X practice or law might not seem like a big cause for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slow accumulation (or repealing) of such practices or laws over time changes the nature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egregation. In partic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al segregation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systems of segregation have ended. However, it is useful to study them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actics from those systems are used in other (lesser) forms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it is easier to learn from extreme examples than from milder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Historical look at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1280" y="66600"/>
            <a:ext cx="484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separate but equal” l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regationists often claimed that two races could live “separate but equal”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course, the “equal” part of “separate but equal” was a l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two set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q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ies was prohibitively expens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toilets, libraries, schools, drinking water fountains, restaurants, hotel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ide from the financial expense, there was also the waste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ither the government nor businesses could aff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inferior, and therefo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n-eq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facilities were provided for black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pite this, the “separate but equal” li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unded plausi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naïve whit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66600"/>
            <a:ext cx="809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segregation was important for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vious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rior facilities ensured oppressed people remained poorly educated and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y could continue to be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reduced slack in the lives of oppressed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lac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earlier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slack, it is difficult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obvious rea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all from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this training course that most non-oppressed citizens form the “apathetic major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ing this majority ignorant of the true horror of oppression ensured they remained a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athy arising from ignorance enabled the oppression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1280" y="66600"/>
            <a:ext cx="6608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nishments for violating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ere severe punishments for white people who tried to end their own (or others’) igno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Chapter 28 of Nelson Mandela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ife, Winnie, spent 2 weeks in prison after taking part in a peaceful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in prison, Winnie befriended 2 white prison w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her release, these new friends visited her in the black tow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ost their jobs becaus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ald Woods, was a  journalist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befriending Steven Biko he started to write unbiased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 “banned” him (from writing or being in a room with more than one other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or details, see his autobiography 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ry Freed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560" y="66600"/>
            <a:ext cx="779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nishments for violating segreg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 provides some mo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, John Howard Griffin, received death threats after publishing his accounts of living as a black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vember 14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vember 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s discussed P. D. East, a journalist who satirised segregat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newspaper lost all its local 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amily was shunned by almost every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nishments for violating segregation laws were more severe for black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who started their own businesses (thus demonstrating their ability for more than menial work) risked having their homes or businesses burned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700 people in America (most black) were lynched between 188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68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 average of slightly more than one per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0640" y="66600"/>
            <a:ext cx="486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gregation aided genoc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orld War 2, the Nazis put Jews into ghet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Wikipedia article 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hettos in Nazi-occupied Euro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ecurity guards to prevent Jews leaving the ghetto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d to prevent non-Jewish people from ent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hettos helped to enforce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hettos were holding areas, until Jews could be transported to concentration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Nazi concentration camps had a “Work sets you free” sign at their ent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villagers thought they were work camps rather than death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33:00Z</dcterms:modified>
  <cp:revision>1159</cp:revision>
  <dc:subject/>
  <dc:title>Tactics of Oppression</dc:title>
</cp:coreProperties>
</file>