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y Tac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E425BBB-AA62-4E13-A534-AEBE2029188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C93355F-9081-44B8-867A-EDDD8CAC60D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isky Tac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Using feelings of superiority to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at feelings of infe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960" y="66600"/>
            <a:ext cx="5640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radicating a sense of inferio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use numbers to indicate levels of self-este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ow self-esteem (“I am inferior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ealthy level of self-est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 numb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verly high self-esteem (“I am superior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pression can cause oppressed people to have low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f-esteem, let’s say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a good way to get their self esteem back up to ze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way is to reclaim history, culture and role models to say “We are just as good as other peop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ally, your self esteem will rise back to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ba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inued oppression might keep dragging your self-esteem back below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96840" y="66600"/>
            <a:ext cx="3506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 alternative tac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lternative tactic i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laim history, culture and role models to sa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We a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tt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 other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im is to bring self-esteem to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, for example, +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ill cancel out the negative self-esteem created by oppression to leave your overall self-esteem at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tactic may seem appealing, but it can be danger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you will overcompensate and end up with a self-esteem of, for example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 if the tactic works perfectly, external supporters might be alienated if they hear the “we are better than other people”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Demonising your oppr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0040" y="66600"/>
            <a:ext cx="7578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temptation to demonise your oppress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ical scen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people are oppressed b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ost oth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X people (who are not oppressors) do nothing to stop the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people are upset and frustr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the oppr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the non-oppressors who do nothing to stop the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tempting for an X-rights activist to demonise non-X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ing this taps into the frustrations and anger of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be an effective way to build up support among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8200" y="66600"/>
            <a:ext cx="7280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danger of demonising your oppress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nising non-X people is likely to scare non-X people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are white, how would you feel hearing the Nation of Islam’s claim that white people are dev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are well off, how would you feel about lots of poorer people shouting “Capitalist bastard” at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ly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ppressors will feel more justified in their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the non-oppressors may, as a form of self-defence, become oppr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non-X people outnumber X people then riots or attempts at an “non-X versus X war” will probably f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90360" y="66600"/>
            <a:ext cx="3506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 alternative tac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yagraha tactics can be more eff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ell Curve of Intoleran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 of this training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yagraha do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nise an oppr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rief reca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espread news coverage of extremist oppressors hurting peaceful protestors wins sympathy of the non-oppressors (the apathetic majo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-longer-apathetic majority will then put peer pressure on the oppressive extremists to end the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has briefly discussed some dangerous tactic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e models are important but resist the urge to put them on pedes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use “we are superior to our oppressors” as a tactic to combat feelings of infe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demonise your oppr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all tactics for fighting oppression are equally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discusses some tactics that are used sometimes but ar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Putting role models on pedes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11440" y="66600"/>
            <a:ext cx="5718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tting role models on pedest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important for an oppressed group to have positive role models to counteract negative stereo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there is a dan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le models tend to be placed on pedestals and idol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olised role models tend to be hated if fans discover their feet of c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edestal is as much a prison as any small, confined place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ria Stein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“feet of clay” does not even have to be a character f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be any way in which the role model does not meet the unrealistic and confining expectation of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98680" y="66600"/>
            <a:ext cx="4292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Tom Robin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m Robinson was a popular and openly gay singer in the late 1970s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ter on, much to his surprise, he fell in love with a 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gay people felt betrayed by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m Robinson answered his critics in a s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21 years now I've fought for the righ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people to love just whoever they lik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 right-on and righteous are out for my bloo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I live with my kid and a woman I l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l if gay liberation means freedom for al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label is no liberation at al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'm here and I'm queer and I do what I d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I'm not gonna wear… a straitjacket for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56000" y="66600"/>
            <a:ext cx="3976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Ani diFranc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inger Ani diFranco was frustrated at being put on a feminist pede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responded to her critics in a s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talk about my imag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 I come in two dimension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 lipstick is a sign of my declining mi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 what I happen to be wear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ay that someone takes a pict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my new statement for all of womanki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ish they could see us now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leather bras and rubber shor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 some ridiculous new team unifor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ome ridiculous new spor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ick someone call the girl poli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file a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62040" y="66600"/>
            <a:ext cx="5973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s: Bob Geldof and Gandh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organising Band Aid to raise money for famine relie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UK media gave Bob Geldof the nickname “Saint Bo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ch to his disgust, some people wanted to touch him because they thought he was h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b Geldof wrote about this in his autobiograp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alled it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od syndr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quoted a fictional character from a short story at the start of his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on’t mind being reverenced, greeted and honoured,’ said Vespaluus, ‘I don’t even mind being sainted in moderation, as long as I’m not expected to be saintly as well.’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Story of St. Vespalu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by Sa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was horrified whenever people treated him as a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27360" y="66600"/>
            <a:ext cx="1820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mor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proud of people who make great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resist putting them on a pedes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finement frustrates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you will feel hurt when they do not live up to your unrealistic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0:52:04Z</dcterms:modified>
  <cp:revision>1164</cp:revision>
  <dc:subject/>
  <dc:title>Obsession</dc:title>
</cp:coreProperties>
</file>