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3874-1D03-4A5C-9BDD-A28A333C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3183-1234-4072-9408-4E3710F5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783C-C6E7-4E48-8D52-F69C57C8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BBCD-F75E-4060-9EE8-2BB8A39A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7BF9-92DF-4C9C-87C1-A8E87028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B846-858B-4FB1-A322-DF7E7BAF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0F79-73B0-4384-9B44-4E4ACF02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04E9-83B3-40AB-B051-CB850969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A4CB-B2D1-41D9-B409-C32EC6D4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2214-D847-4C41-8D10-F4B9E00E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7DF2-1166-4E65-A231-1745C4D6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5585-8F44-46D2-9DD9-73517C83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B622-A243-4FAA-97E5-AF61BABA1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85800"/>
            <a:ext cx="7620120" cy="20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Playing Cards"/>
              </a:rPr>
              <a:t>NaLYly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198240" y="3427920"/>
            <a:ext cx="2567880" cy="2617920"/>
            <a:chOff x="3198240" y="3427920"/>
            <a:chExt cx="2567880" cy="2617920"/>
          </a:xfrm>
        </p:grpSpPr>
        <p:grpSp>
          <p:nvGrpSpPr>
            <p:cNvPr id="43" name=""/>
            <p:cNvGrpSpPr/>
            <p:nvPr/>
          </p:nvGrpSpPr>
          <p:grpSpPr>
            <a:xfrm>
              <a:off x="3198240" y="3427920"/>
              <a:ext cx="2086200" cy="2473920"/>
              <a:chOff x="3198240" y="3427920"/>
              <a:chExt cx="2086200" cy="2473920"/>
            </a:xfrm>
          </p:grpSpPr>
          <p:sp>
            <p:nvSpPr>
              <p:cNvPr id="44" name=""/>
              <p:cNvSpPr/>
              <p:nvPr/>
            </p:nvSpPr>
            <p:spPr>
              <a:xfrm rot="20178000">
                <a:off x="3523680" y="3635280"/>
                <a:ext cx="1434960" cy="1920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20178000">
                <a:off x="3756240" y="3723120"/>
                <a:ext cx="1093680" cy="20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800" spc="-1" strike="noStrike">
                    <a:solidFill>
                      <a:srgbClr val="000000"/>
                    </a:solidFill>
                    <a:latin typeface="Playing Cards"/>
                  </a:rPr>
                  <a:t>a</a:t>
                </a:r>
                <a:endParaRPr b="0" lang="en-US" sz="1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3485880" y="3511080"/>
              <a:ext cx="1938240" cy="2445840"/>
              <a:chOff x="3485880" y="3511080"/>
              <a:chExt cx="1938240" cy="2445840"/>
            </a:xfrm>
          </p:grpSpPr>
          <p:sp>
            <p:nvSpPr>
              <p:cNvPr id="47" name=""/>
              <p:cNvSpPr/>
              <p:nvPr/>
            </p:nvSpPr>
            <p:spPr>
              <a:xfrm rot="20681400">
                <a:off x="3713760" y="3666240"/>
                <a:ext cx="1434960" cy="1920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20681400">
                <a:off x="3762720" y="3761280"/>
                <a:ext cx="1416600" cy="20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800" spc="-1" strike="noStrike">
                    <a:solidFill>
                      <a:srgbClr val="000000"/>
                    </a:solidFill>
                    <a:latin typeface="Playing Cards"/>
                  </a:rPr>
                  <a:t>N</a:t>
                </a:r>
                <a:endParaRPr b="0" lang="en-US" sz="1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89000" y="3650040"/>
              <a:ext cx="1696680" cy="2300760"/>
              <a:chOff x="3789000" y="3650040"/>
              <a:chExt cx="1696680" cy="2300760"/>
            </a:xfrm>
          </p:grpSpPr>
          <p:sp>
            <p:nvSpPr>
              <p:cNvPr id="50" name=""/>
              <p:cNvSpPr/>
              <p:nvPr/>
            </p:nvSpPr>
            <p:spPr>
              <a:xfrm rot="21103800">
                <a:off x="3919680" y="3743280"/>
                <a:ext cx="1434960" cy="1920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21103800">
                <a:off x="4141080" y="3841920"/>
                <a:ext cx="1032480" cy="20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800" spc="-1" strike="noStrike">
                    <a:solidFill>
                      <a:srgbClr val="000000"/>
                    </a:solidFill>
                    <a:latin typeface="Playing Cards"/>
                  </a:rPr>
                  <a:t>L</a:t>
                </a:r>
                <a:endParaRPr b="0" lang="en-US" sz="1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044600" y="3760200"/>
              <a:ext cx="1515240" cy="2196720"/>
              <a:chOff x="4044600" y="3760200"/>
              <a:chExt cx="1515240" cy="2196720"/>
            </a:xfrm>
          </p:grpSpPr>
          <p:sp>
            <p:nvSpPr>
              <p:cNvPr id="53" name=""/>
              <p:cNvSpPr/>
              <p:nvPr/>
            </p:nvSpPr>
            <p:spPr>
              <a:xfrm rot="21454200">
                <a:off x="4084560" y="3789720"/>
                <a:ext cx="1434960" cy="1920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454200">
                <a:off x="4255200" y="3889440"/>
                <a:ext cx="1101240" cy="20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800" spc="-1" strike="noStrike">
                    <a:solidFill>
                      <a:srgbClr val="000000"/>
                    </a:solidFill>
                    <a:latin typeface="Playing Cards"/>
                  </a:rPr>
                  <a:t>Y</a:t>
                </a:r>
                <a:endParaRPr b="0" lang="en-US" sz="1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214160" y="3829320"/>
              <a:ext cx="1551960" cy="2216520"/>
              <a:chOff x="4214160" y="3829320"/>
              <a:chExt cx="1551960" cy="2216520"/>
            </a:xfrm>
          </p:grpSpPr>
          <p:sp>
            <p:nvSpPr>
              <p:cNvPr id="56" name=""/>
              <p:cNvSpPr/>
              <p:nvPr/>
            </p:nvSpPr>
            <p:spPr>
              <a:xfrm rot="214800">
                <a:off x="4272480" y="3872160"/>
                <a:ext cx="1434960" cy="1920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4800">
                <a:off x="4471560" y="3971520"/>
                <a:ext cx="1009800" cy="20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800" spc="-1" strike="noStrike">
                    <a:solidFill>
                      <a:srgbClr val="000000"/>
                    </a:solidFill>
                    <a:latin typeface="Playing Cards"/>
                  </a:rPr>
                  <a:t>y</a:t>
                </a:r>
                <a:endParaRPr b="0" lang="en-US" sz="1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2:13:54Z</dcterms:created>
  <dc:creator>cjmchale</dc:creator>
  <dc:description/>
  <dc:language>en-US</dc:language>
  <cp:lastModifiedBy>cjmchale</cp:lastModifiedBy>
  <dcterms:modified xsi:type="dcterms:W3CDTF">2009-02-13T12:14:20Z</dcterms:modified>
  <cp:revision>1</cp:revision>
  <dc:subject/>
  <dc:title>PowerPoint Presentation</dc:title>
</cp:coreProperties>
</file>